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25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6944D-D2AC-403C-BDD6-8BB2B589B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781E4-CFF4-438E-A134-4E266E08F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3D0F2-7C10-4414-BEE3-72C3A7B74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905B9-947E-406C-8E5F-6A1465815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94505-85F9-407F-A3BE-2395DE2C8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75E6E-EBF7-440B-A197-CF619B34E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5C72D-5D14-414C-B87A-560962C6C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9A74F-0B23-4833-9C9E-53F2B5B4F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8B38A-E27D-4EE4-A019-BB4E2CFD1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34FD8-CD27-4F9F-9DF4-4BA2409F7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849FD-116A-47D5-9E02-AFFAB9A4E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1D708-CD75-4FD7-BC10-ABD8952D2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019A8-B540-4BB3-8AD6-EB106C390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317A3-F9F8-43DD-84E0-AB56EE498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A7A04-E5F5-49FD-B4D7-8BAC0E6E1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83C18-87CE-410E-AE1D-ECC0E2E67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78B47-B1A9-417E-BB60-178345C0E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A044A-7735-471D-A909-94D85819F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763DE-1105-4D7D-82F6-A236C3FA4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8E549-B024-465E-BABC-E825BF765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66D03-F422-4A17-A3F8-816F62E7D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B75A4-4661-468F-A7D8-43573580E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061CE-190F-490D-B9B5-F8E08D4D0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325A9-4938-49C7-8D9C-B71D7EAE2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Arial"/>
                <a:ea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24E4E-6504-4CD2-95EA-66F6B0D7D00C}" type="slidenum">
              <a:rPr b="0" lang="ar-SA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Arial"/>
                <a:ea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A3AD6-77DE-4F32-9919-5699405EDA53}" type="slidenum">
              <a:rPr b="0" lang="ar-SA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1219320"/>
            <a:ext cx="9296280" cy="56386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 rot="16200000">
            <a:off x="4038480" y="-4038480"/>
            <a:ext cx="1219320" cy="9296280"/>
          </a:xfrm>
          <a:prstGeom prst="flowChartDelay">
            <a:avLst/>
          </a:prstGeom>
          <a:gradFill rotWithShape="0">
            <a:gsLst>
              <a:gs pos="0">
                <a:srgbClr val="000000"/>
              </a:gs>
              <a:gs pos="100000">
                <a:srgbClr val="4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ar-LB" sz="2800" spc="-1" strike="noStrike">
                <a:solidFill>
                  <a:srgbClr val="ffffff"/>
                </a:solidFill>
                <a:latin typeface="Arial"/>
                <a:cs typeface="Arial"/>
              </a:rPr>
              <a:t>باب الصل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  <a:cs typeface="Arial"/>
              </a:rPr>
              <a:t>وَالَّذِينَ يَصِلُونَ مَا أَمَرَ اللَّهُ بِهِ أَنْ يُوصَل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00400" y="6095880"/>
            <a:ext cx="266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1800" spc="-1" strike="noStrike">
                <a:solidFill>
                  <a:srgbClr val="ffffff"/>
                </a:solidFill>
                <a:latin typeface="Arial"/>
                <a:cs typeface="Arial"/>
              </a:rPr>
              <a:t>إضغط الماوس لبدء العرض</a:t>
            </a:r>
            <a:r>
              <a:rPr b="1" lang="ar-LB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80880" y="644508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1800" spc="-1" strike="noStrike">
                <a:solidFill>
                  <a:srgbClr val="ffffff"/>
                </a:solidFill>
                <a:latin typeface="Arial"/>
                <a:cs typeface="Arial"/>
              </a:rPr>
              <a:t>لظهور الاحتمالات إضغط الماوس بعد إنتهاء الآية             و لمعرفة الاحتمال الصحيح إضغط الماوس مرة ثان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-457200" y="-22860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762120" y="1523880"/>
            <a:ext cx="73152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الْمُؤْتَفِكَةَ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أَهْوَى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</a:t>
            </a:r>
            <a:r>
              <a:rPr b="0" lang="ar-LB" sz="2800" spc="-1" strike="noStrike">
                <a:solidFill>
                  <a:srgbClr val="010199"/>
                </a:solidFill>
                <a:latin typeface="Wingdings 2"/>
                <a:ea typeface="Wingdings 2"/>
              </a:rPr>
              <a:t>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فَغَشَّاهَا مَا غَشَّى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ا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لنجم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53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858000" y="3429000"/>
            <a:ext cx="12333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أَهْوَى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800600" y="3429000"/>
            <a:ext cx="16891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أح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895480" y="342900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أسقط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066680" y="3429000"/>
            <a:ext cx="15289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هد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914400" y="4724280"/>
            <a:ext cx="711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cs typeface="Arial"/>
              </a:rPr>
              <a:t>المقصود بالمؤتفكة هم القرى المنقلبة عن الإيمان ،اللهُ سبحانه أسقط قراهم وخسفها إلى الأرض بقلبها وشملها وأحاط بها من العذاب ما شملها وأحاط بها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419720" y="27432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0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6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2" dur="5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4" dur="6531" fill="hold"/>
                                        <p:tgtEl>
                                          <p:spTgt spid="1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9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500"/>
                            </p:stCondLst>
                            <p:childTnLst>
                              <p:par>
                                <p:cTn id="46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1000"/>
                            </p:stCondLst>
                            <p:childTnLst>
                              <p:par>
                                <p:cTn id="466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70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2000"/>
                            </p:stCondLst>
                            <p:childTnLst>
                              <p:par>
                                <p:cTn id="47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6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8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2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83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fill="hold">
                            <p:stCondLst>
                              <p:cond delay="500"/>
                            </p:stCondLst>
                            <p:childTnLst>
                              <p:par>
                                <p:cTn id="4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838080" y="1981080"/>
            <a:ext cx="723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فَبِأَيِّ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آلاءِ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رَبِّكَ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تَتَمَارَى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لنجم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55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705720" y="3352680"/>
            <a:ext cx="14889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آلاءِ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705720" y="4343400"/>
            <a:ext cx="14904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تَتَمَارَى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3352680"/>
            <a:ext cx="16081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نِع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724280" y="3352680"/>
            <a:ext cx="17258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أسما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95480" y="3352680"/>
            <a:ext cx="15843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قدرا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724280" y="4343400"/>
            <a:ext cx="16621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تشك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95480" y="4343400"/>
            <a:ext cx="16081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تستهز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066680" y="4343400"/>
            <a:ext cx="15573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تكذ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3"/>
          <a:stretch/>
        </p:blipFill>
        <p:spPr>
          <a:xfrm>
            <a:off x="4343400" y="2819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fill="hold">
                      <p:stCondLst>
                        <p:cond delay="0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97" dur="10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99" dur="5591" fill="hold"/>
                                        <p:tgtEl>
                                          <p:spTgt spid="2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8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500"/>
                            </p:stCondLst>
                            <p:childTnLst>
                              <p:par>
                                <p:cTn id="510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5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1000"/>
                            </p:stCondLst>
                            <p:childTnLst>
                              <p:par>
                                <p:cTn id="51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19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1500"/>
                            </p:stCondLst>
                            <p:childTnLst>
                              <p:par>
                                <p:cTn id="52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528" dur="8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9" dur="8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0" dur="8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2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533" dur="8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4" dur="8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5" dur="8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240"/>
                            </p:stCondLst>
                            <p:childTnLst>
                              <p:par>
                                <p:cTn id="53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0" dur="8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1" dur="8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2" dur="8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720"/>
                            </p:stCondLst>
                            <p:childTnLst>
                              <p:par>
                                <p:cTn id="54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6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1220"/>
                            </p:stCondLst>
                            <p:childTnLst>
                              <p:par>
                                <p:cTn id="54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50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1720"/>
                            </p:stCondLst>
                            <p:childTnLst>
                              <p:par>
                                <p:cTn id="55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559" dur="8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0" dur="8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1" dur="8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3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564" dur="8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5" dur="8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6" dur="8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609480" y="2057400"/>
            <a:ext cx="769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أَنْتُمْ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سَامِدُونَ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ا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لنجم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61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692400" y="3505320"/>
            <a:ext cx="15933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سَامِدُونَ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505320"/>
            <a:ext cx="16923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لاهو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952880" y="3505320"/>
            <a:ext cx="160020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ستكبرو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990720" y="3505320"/>
            <a:ext cx="16984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ساجدون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3"/>
          <a:stretch/>
        </p:blipFill>
        <p:spPr>
          <a:xfrm>
            <a:off x="4495680" y="2743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68" dur="indefinite" restart="never" nodeType="tmRoot">
          <p:childTnLst>
            <p:seq>
              <p:cTn id="569" dur="indefinite" nodeType="mainSeq">
                <p:childTnLst>
                  <p:par>
                    <p:cTn id="570" fill="hold">
                      <p:stCondLst>
                        <p:cond delay="0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8" dur="5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80" dur="3396" fill="hold"/>
                                        <p:tgtEl>
                                          <p:spTgt spid="2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5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fill="hold">
                            <p:stCondLst>
                              <p:cond delay="500"/>
                            </p:stCondLst>
                            <p:childTnLst>
                              <p:par>
                                <p:cTn id="587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2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fill="hold">
                            <p:stCondLst>
                              <p:cond delay="1000"/>
                            </p:stCondLst>
                            <p:childTnLst>
                              <p:par>
                                <p:cTn id="59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9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1500"/>
                            </p:stCondLst>
                            <p:childTnLst>
                              <p:par>
                                <p:cTn id="59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605" dur="8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6" dur="8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7" dur="8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9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610" dur="8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1" dur="8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2" dur="8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762120" y="1828800"/>
            <a:ext cx="77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كَذَّبُوا وَاتَّبَعُوا أَهْوَاءَهُمْ وَكُلُّ أَمْرٍ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مُسْتَقِرٌّ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                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قمر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3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858000" y="3581280"/>
            <a:ext cx="122544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مُسْتَقِرّ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029200" y="3581280"/>
            <a:ext cx="1465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ثاب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200400" y="3581280"/>
            <a:ext cx="14860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قوي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295280" y="3581280"/>
            <a:ext cx="1533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جهول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62120" y="4495680"/>
            <a:ext cx="7391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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cs typeface="Arial"/>
              </a:rPr>
              <a:t>المعنى أنهم كذَّبوا الحقَّ ومعجزاته واتبَّعوا رغباتهم ، والمراد أن كل الأمور والأعمال ثابتة وكل عمل وأمر سيذهب إلى مستقره ويُعلم إذا كان حقٌ أو باطلٌ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0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2" dur="10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24" dur="10449" fill="hold"/>
                                        <p:tgtEl>
                                          <p:spTgt spid="2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3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fill="hold">
                            <p:stCondLst>
                              <p:cond delay="500"/>
                            </p:stCondLst>
                            <p:childTnLst>
                              <p:par>
                                <p:cTn id="63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37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fill="hold">
                            <p:stCondLst>
                              <p:cond delay="1000"/>
                            </p:stCondLst>
                            <p:childTnLst>
                              <p:par>
                                <p:cTn id="63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fill="hold">
                            <p:stCondLst>
                              <p:cond delay="1500"/>
                            </p:stCondLst>
                            <p:childTnLst>
                              <p:par>
                                <p:cTn id="64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9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fill="hold">
                            <p:stCondLst>
                              <p:cond delay="2000"/>
                            </p:stCondLst>
                            <p:childTnLst>
                              <p:par>
                                <p:cTn id="651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6" dur="5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660" dur="8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1" dur="8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2" dur="8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4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665" dur="8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6" dur="8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7" dur="8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9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670" dur="8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1" dur="8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2" dur="8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fill="hold">
                            <p:stCondLst>
                              <p:cond delay="240"/>
                            </p:stCondLst>
                            <p:childTnLst>
                              <p:par>
                                <p:cTn id="6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7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609480" y="213372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لَقَدْ جَاءَهُمْ مِنَ الْأَنْبَاءِ مَا فِيهِ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مُزْدَجَرٌ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                     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قمر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4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781680" y="3657600"/>
            <a:ext cx="126216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مُزْدَجَرٌ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048120" y="3657600"/>
            <a:ext cx="1523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تع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952880" y="3657600"/>
            <a:ext cx="1546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حكمة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219320" y="3657600"/>
            <a:ext cx="15588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أمر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78" dur="indefinite" restart="never" nodeType="tmRoot">
          <p:childTnLst>
            <p:seq>
              <p:cTn id="679" dur="indefinite" nodeType="mainSeq">
                <p:childTnLst>
                  <p:par>
                    <p:cTn id="680" fill="hold">
                      <p:stCondLst>
                        <p:cond delay="0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8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5" dur="8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8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8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91" dur="9405" fill="hold"/>
                                        <p:tgtEl>
                                          <p:spTgt spid="2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96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fill="hold">
                            <p:stCondLst>
                              <p:cond delay="500"/>
                            </p:stCondLst>
                            <p:childTnLst>
                              <p:par>
                                <p:cTn id="6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0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fill="hold">
                            <p:stCondLst>
                              <p:cond delay="1000"/>
                            </p:stCondLst>
                            <p:childTnLst>
                              <p:par>
                                <p:cTn id="702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0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7" fill="hold">
                            <p:stCondLst>
                              <p:cond delay="2000"/>
                            </p:stCondLst>
                            <p:childTnLst>
                              <p:par>
                                <p:cTn id="70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10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85800" y="198108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حَمَلْنَاهُ عَلَى ذَاتِ أَلْوَاحٍ و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َدُسُرٍ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قمر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13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705720" y="3581280"/>
            <a:ext cx="1479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َدُسُرٍ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952880" y="3581280"/>
            <a:ext cx="14605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سامي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124080" y="3581280"/>
            <a:ext cx="15368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عوامي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219320" y="3581280"/>
            <a:ext cx="15937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خيطا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17" dur="indefinite" restart="never" nodeType="tmRoot">
          <p:childTnLst>
            <p:seq>
              <p:cTn id="718" dur="indefinite" nodeType="mainSeq">
                <p:childTnLst>
                  <p:par>
                    <p:cTn id="719" fill="hold">
                      <p:stCondLst>
                        <p:cond delay="0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25" dur="10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7" dur="5382" fill="hold"/>
                                        <p:tgtEl>
                                          <p:spTgt spid="2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2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3" fill="hold">
                            <p:stCondLst>
                              <p:cond delay="500"/>
                            </p:stCondLst>
                            <p:childTnLst>
                              <p:par>
                                <p:cTn id="73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9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0" fill="hold">
                            <p:stCondLst>
                              <p:cond delay="1000"/>
                            </p:stCondLst>
                            <p:childTnLst>
                              <p:par>
                                <p:cTn id="74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43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4" fill="hold">
                            <p:stCondLst>
                              <p:cond delay="1500"/>
                            </p:stCondLst>
                            <p:childTnLst>
                              <p:par>
                                <p:cTn id="74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685800" y="205740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تَنْزِعُ النَّاسَ كَأَنَّهُمْ أَعْجَازُ نَخْلٍ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مُنْقَعِرٍ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قمر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20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858000" y="3581280"/>
            <a:ext cx="13287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مُنْقَعِرٍ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895480" y="3581280"/>
            <a:ext cx="1685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قلو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952880" y="3581280"/>
            <a:ext cx="1587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كسو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914400" y="3581280"/>
            <a:ext cx="1654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تجذ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55" dur="indefinite" restart="never" nodeType="tmRoot">
          <p:childTnLst>
            <p:seq>
              <p:cTn id="756" dur="indefinite" nodeType="mainSeq">
                <p:childTnLst>
                  <p:par>
                    <p:cTn id="757" fill="hold">
                      <p:stCondLst>
                        <p:cond delay="0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61" dur="5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63" dur="7889" fill="hold"/>
                                        <p:tgtEl>
                                          <p:spTgt spid="2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68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500"/>
                            </p:stCondLst>
                            <p:childTnLst>
                              <p:par>
                                <p:cTn id="77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72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3" fill="hold">
                            <p:stCondLst>
                              <p:cond delay="1000"/>
                            </p:stCondLst>
                            <p:childTnLst>
                              <p:par>
                                <p:cTn id="77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6" dur="8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7" dur="8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8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8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2" fill="hold">
                            <p:stCondLst>
                              <p:cond delay="2000"/>
                            </p:stCondLst>
                            <p:childTnLst>
                              <p:par>
                                <p:cTn id="783" nodeType="afterEffect" fill="hold" presetClass="entr" presetID="5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87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8" nodeType="withEffect" fill="hold" presetClass="entr" presetID="5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92" dur="10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796" dur="8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97" dur="8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8" dur="8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0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801" dur="8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2" dur="8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3" dur="8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5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806" dur="8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7" dur="8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8" dur="8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685800" y="2057400"/>
            <a:ext cx="7620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أَأُلْقِيَ الذِّكْرُ عَلَيْهِ مِنْ بَيْنِنَا بَلْ هُوَ كَذَّابٌ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ea typeface="Arial"/>
              </a:rPr>
              <a:t> أَشِرٌ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         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قمر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25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3505320"/>
            <a:ext cx="13590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أَشِرٌ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800600" y="3505320"/>
            <a:ext cx="1523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تكَّبر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971800" y="350532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حتال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066680" y="3505320"/>
            <a:ext cx="16257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جنو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10" dur="indefinite" restart="never" nodeType="tmRoot">
          <p:childTnLst>
            <p:seq>
              <p:cTn id="811" dur="indefinite" nodeType="mainSeq">
                <p:childTnLst>
                  <p:par>
                    <p:cTn id="812" fill="hold">
                      <p:stCondLst>
                        <p:cond delay="0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16" dur="5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18" dur="7210" fill="hold"/>
                                        <p:tgtEl>
                                          <p:spTgt spid="2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3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4" fill="hold">
                            <p:stCondLst>
                              <p:cond delay="500"/>
                            </p:stCondLst>
                            <p:childTnLst>
                              <p:par>
                                <p:cTn id="82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27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8" fill="hold">
                            <p:stCondLst>
                              <p:cond delay="1000"/>
                            </p:stCondLst>
                            <p:childTnLst>
                              <p:par>
                                <p:cTn id="82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1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3" fill="hold">
                            <p:stCondLst>
                              <p:cond delay="1500"/>
                            </p:stCondLst>
                            <p:childTnLst>
                              <p:par>
                                <p:cTn id="83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6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9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914400" y="1219320"/>
            <a:ext cx="7162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وَنَبِّئْهُمْ أَنَّ الْمَاءَ قِسْمَةٌ بَيْنَهُمْ كُلُّ شِرْبٍ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مُحْتَضَرٌ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       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قمر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28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400800" y="2743200"/>
            <a:ext cx="16621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مُحْتَضَرٌ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905120" y="4267080"/>
            <a:ext cx="397656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حضره أهله لا يحضر سواه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905120" y="2743200"/>
            <a:ext cx="39430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أتي شربهم لعنده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905120" y="3505320"/>
            <a:ext cx="39654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وزع بالتساوي لكل النا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3"/>
          <a:stretch/>
        </p:blipFill>
        <p:spPr>
          <a:xfrm>
            <a:off x="3352680" y="23623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762120" y="502920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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ea typeface="Arial"/>
              </a:rPr>
              <a:t> المراد أن الماء قسمةٌ بينهم وبين الناقة وكل قوم لهم حصتهم ونصيبهم من الماء ولا يحق لأحد آخر الحضور والشرب منها وكلٌ يذهب حيث نصيبه من الشرب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46" dur="indefinite" restart="never" nodeType="tmRoot">
          <p:childTnLst>
            <p:seq>
              <p:cTn id="847" dur="indefinite" nodeType="mainSeq">
                <p:childTnLst>
                  <p:par>
                    <p:cTn id="848" fill="hold">
                      <p:stCondLst>
                        <p:cond delay="0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2" dur="5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5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55" dur="11390" fill="hold"/>
                                        <p:tgtEl>
                                          <p:spTgt spid="2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60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1" fill="hold">
                            <p:stCondLst>
                              <p:cond delay="500"/>
                            </p:stCondLst>
                            <p:childTnLst>
                              <p:par>
                                <p:cTn id="86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64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5" fill="hold">
                            <p:stCondLst>
                              <p:cond delay="1000"/>
                            </p:stCondLst>
                            <p:childTnLst>
                              <p:par>
                                <p:cTn id="86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68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71" dur="50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2" fill="hold">
                            <p:stCondLst>
                              <p:cond delay="1500"/>
                            </p:stCondLst>
                            <p:childTnLst>
                              <p:par>
                                <p:cTn id="87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5" dur="8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6" dur="8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8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8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84" dur="1000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1000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86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8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89" dur="100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100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91" dur="100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3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94" dur="1000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5" dur="1000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96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1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685800" y="1752480"/>
            <a:ext cx="7696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إِنَّا أَرْسَلْنَا عَلَيْهِمْ صَيْحَةً وَاحِدَةً فَكَانُوا كَهَشِيمِ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الْمُحْتَظِرِ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قمر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31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868440" y="3505320"/>
            <a:ext cx="16160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الْمُحْتَظِرِ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62120" y="3505320"/>
            <a:ext cx="205740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صاحب الحظير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05520" y="3505320"/>
            <a:ext cx="176364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صاحب الغن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971800" y="3505320"/>
            <a:ext cx="198108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علف الياب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838080" y="458784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cs typeface="Arial"/>
              </a:rPr>
              <a:t>المعنى أنهم أصبحوا بعد الصيحة كالشجرالمتكسر والنبات اليابس ونحوه مما يجمعه صاحب الحظيرة لماشيته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02" dur="indefinite" restart="never" nodeType="tmRoot">
          <p:childTnLst>
            <p:seq>
              <p:cTn id="903" dur="indefinite" nodeType="mainSeq">
                <p:childTnLst>
                  <p:par>
                    <p:cTn id="904" fill="hold">
                      <p:stCondLst>
                        <p:cond delay="0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08" dur="50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10" dur="11390" fill="hold"/>
                                        <p:tgtEl>
                                          <p:spTgt spid="2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15" dur="80"/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16" dur="80"/>
                                        <p:tgtEl>
                                          <p:spTgt spid="2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7" dur="80"/>
                                        <p:tgtEl>
                                          <p:spTgt spid="2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8" fill="hold">
                            <p:stCondLst>
                              <p:cond delay="600"/>
                            </p:stCondLst>
                            <p:childTnLst>
                              <p:par>
                                <p:cTn id="91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23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4" fill="hold">
                            <p:stCondLst>
                              <p:cond delay="1600"/>
                            </p:stCondLst>
                            <p:childTnLst>
                              <p:par>
                                <p:cTn id="92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27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8" fill="hold">
                            <p:stCondLst>
                              <p:cond delay="2100"/>
                            </p:stCondLst>
                            <p:childTnLst>
                              <p:par>
                                <p:cTn id="92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31" dur="5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2" fill="hold">
                            <p:stCondLst>
                              <p:cond delay="2600"/>
                            </p:stCondLst>
                            <p:childTnLst>
                              <p:par>
                                <p:cTn id="93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35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0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2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533520" y="175248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أَمْ تَسْأَلُهُمْ أَجْراً فَهُمْ مِنْ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مَغْرَمٍ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مُثْقَلُونَ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طور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40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858000" y="3505320"/>
            <a:ext cx="12682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مَغْرَمٍ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505320"/>
            <a:ext cx="16560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دي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105520" y="3505320"/>
            <a:ext cx="1523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ح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143000" y="3505320"/>
            <a:ext cx="1654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تع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7576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41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46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609480" y="205740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فِي مَقْعَدِ صِدْقٍ عِنْدَ مَلِيكٍ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مُقْتَدِرٍ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قمر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55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6934320" y="3657600"/>
            <a:ext cx="13856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مُقْتَدِرٍ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657600"/>
            <a:ext cx="160344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عظيم القدر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800600" y="3657600"/>
            <a:ext cx="176364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عظيم العف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53040" y="3657600"/>
            <a:ext cx="21834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واسع المغفر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292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48" dur="indefinite" restart="never" nodeType="tmRoot">
          <p:childTnLst>
            <p:seq>
              <p:cTn id="949" dur="indefinite" nodeType="mainSeq">
                <p:childTnLst>
                  <p:par>
                    <p:cTn id="950" fill="hold">
                      <p:stCondLst>
                        <p:cond delay="0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4" dur="5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5" dur="5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57" dur="6165" fill="hold"/>
                                        <p:tgtEl>
                                          <p:spTgt spid="2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62" dur="80"/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63" dur="80"/>
                                        <p:tgtEl>
                                          <p:spTgt spid="2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4" dur="80"/>
                                        <p:tgtEl>
                                          <p:spTgt spid="2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5" fill="hold">
                            <p:stCondLst>
                              <p:cond delay="480"/>
                            </p:stCondLst>
                            <p:childTnLst>
                              <p:par>
                                <p:cTn id="96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8" dur="8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9" dur="8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0" dur="8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1" dur="8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6" dur="80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7" dur="8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8" dur="8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9" dur="8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2" fill="hold">
                            <p:stCondLst>
                              <p:cond delay="1480"/>
                            </p:stCondLst>
                            <p:childTnLst>
                              <p:par>
                                <p:cTn id="98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5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6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9" fill="hold">
                            <p:stCondLst>
                              <p:cond delay="1980"/>
                            </p:stCondLst>
                            <p:childTnLst>
                              <p:par>
                                <p:cTn id="99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92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96" dur="100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7" dur="100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98" dur="100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01" dur="1000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2" dur="1000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03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5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06" dur="1000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7" dur="1000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08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94" name=""/>
          <p:cNvSpPr/>
          <p:nvPr/>
        </p:nvSpPr>
        <p:spPr>
          <a:xfrm>
            <a:off x="457200" y="205740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الشَّمْسُ وَالْقَمَرُ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بِحُسْبَانٍ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رحمن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5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2895480" y="3733920"/>
            <a:ext cx="17557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بحسا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934320" y="3733920"/>
            <a:ext cx="136368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بِحُسْبَانٍ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5029200" y="3733920"/>
            <a:ext cx="16160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بميزا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838080" y="3733920"/>
            <a:ext cx="17528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بالسما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301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10" dur="indefinite" restart="never" nodeType="tmRoot">
          <p:childTnLst>
            <p:seq>
              <p:cTn id="1011" dur="indefinite" nodeType="mainSeq">
                <p:childTnLst>
                  <p:par>
                    <p:cTn id="1012" fill="hold">
                      <p:stCondLst>
                        <p:cond delay="0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18" dur="1000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20" dur="4075" fill="hold"/>
                                        <p:tgtEl>
                                          <p:spTgt spid="3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5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6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7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8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9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0" fill="hold">
                            <p:stCondLst>
                              <p:cond delay="500"/>
                            </p:stCondLst>
                            <p:childTnLst>
                              <p:par>
                                <p:cTn id="103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3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4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35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6" fill="hold">
                            <p:stCondLst>
                              <p:cond delay="1500"/>
                            </p:stCondLst>
                            <p:childTnLst>
                              <p:par>
                                <p:cTn id="103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39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0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43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4" fill="hold">
                      <p:stCondLst>
                        <p:cond delay="indefinite"/>
                      </p:stCondLst>
                      <p:childTnLst>
                        <p:par>
                          <p:cTn id="1045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533520" y="175248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فِيهَا فَاكِهَةٌ وَالنَّخْلُ ذَاتُ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الْأَكْمَامِ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رحمن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11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6902280" y="3505320"/>
            <a:ext cx="140364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الْأَكْمَامِ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876920" y="3505320"/>
            <a:ext cx="19047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أوعية الثم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895480" y="3505320"/>
            <a:ext cx="18288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ثمار البل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43680" y="3505320"/>
            <a:ext cx="23007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اوراق الكبير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50" dur="indefinite" restart="never" nodeType="tmRoot">
          <p:childTnLst>
            <p:seq>
              <p:cTn id="1051" dur="indefinite" nodeType="mainSeq">
                <p:childTnLst>
                  <p:par>
                    <p:cTn id="1052" fill="hold">
                      <p:stCondLst>
                        <p:cond delay="0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6" dur="1000" fill="hold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7" dur="1000" fill="hold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58" dur="1000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60" dur="6270" fill="hold"/>
                                        <p:tgtEl>
                                          <p:spTgt spid="3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5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6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7" fill="hold">
                            <p:stCondLst>
                              <p:cond delay="500"/>
                            </p:stCondLst>
                            <p:childTnLst>
                              <p:par>
                                <p:cTn id="106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70" dur="80"/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71" dur="80"/>
                                        <p:tgtEl>
                                          <p:spTgt spid="3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2" dur="80"/>
                                        <p:tgtEl>
                                          <p:spTgt spid="3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3" fill="hold">
                            <p:stCondLst>
                              <p:cond delay="940"/>
                            </p:stCondLst>
                            <p:childTnLst>
                              <p:par>
                                <p:cTn id="107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6" dur="8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7" dur="8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8" dur="8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9" dur="8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800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5" dur="800" fill="hold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6" dur="800" fill="hold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7" dur="800" fill="hold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0" fill="hold">
                            <p:stCondLst>
                              <p:cond delay="1940"/>
                            </p:stCondLst>
                            <p:childTnLst>
                              <p:par>
                                <p:cTn id="109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3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4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5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6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7" fill="hold">
                      <p:stCondLst>
                        <p:cond delay="indefinite"/>
                      </p:stCondLst>
                      <p:childTnLst>
                        <p:par>
                          <p:cTn id="1098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00" dur="1000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1" dur="1000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02" dur="1000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4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05" dur="1000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6" dur="1000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07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9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110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312" name=""/>
          <p:cNvSpPr/>
          <p:nvPr/>
        </p:nvSpPr>
        <p:spPr>
          <a:xfrm>
            <a:off x="1066680" y="1676520"/>
            <a:ext cx="701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الْحَبُّ ذُو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ea typeface="Arial"/>
              </a:rPr>
              <a:t> الْعَصْفِ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وَالرَّيْحَانُ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رحمن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12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6934320" y="3276720"/>
            <a:ext cx="133488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الْعَصْفِ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895480" y="3276720"/>
            <a:ext cx="17100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قش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4952880" y="3276720"/>
            <a:ext cx="17337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نوا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990720" y="3276720"/>
            <a:ext cx="16761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ألوا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133720" y="4572000"/>
            <a:ext cx="4205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ea typeface="Arial"/>
              </a:rPr>
              <a:t> أي ما هو كغلاف للحب وهو قشر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320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0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18" dur="500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20" dur="3919" fill="hold"/>
                                        <p:tgtEl>
                                          <p:spTgt spid="3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5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6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7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8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9" fill="hold">
                            <p:stCondLst>
                              <p:cond delay="500"/>
                            </p:stCondLst>
                            <p:childTnLst>
                              <p:par>
                                <p:cTn id="11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2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3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4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37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1500"/>
                            </p:stCondLst>
                            <p:childTnLst>
                              <p:par>
                                <p:cTn id="1139" nodeType="afterEffect" fill="hold" presetClass="entr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1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2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43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4" fill="hold">
                      <p:stCondLst>
                        <p:cond delay="indefinite"/>
                      </p:stCondLst>
                      <p:childTnLst>
                        <p:par>
                          <p:cTn id="1145" fill="hold">
                            <p:stCondLst>
                              <p:cond delay="0"/>
                            </p:stCondLst>
                            <p:childTnLst>
                              <p:par>
                                <p:cTn id="1146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147" dur="80"/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48" dur="80"/>
                                        <p:tgtEl>
                                          <p:spTgt spid="3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49" dur="80"/>
                                        <p:tgtEl>
                                          <p:spTgt spid="3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1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152" dur="80"/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53" dur="80"/>
                                        <p:tgtEl>
                                          <p:spTgt spid="3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54" dur="80"/>
                                        <p:tgtEl>
                                          <p:spTgt spid="3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6" fill="hold">
                            <p:stCondLst>
                              <p:cond delay="320"/>
                            </p:stCondLst>
                            <p:childTnLst>
                              <p:par>
                                <p:cTn id="11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9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533520" y="205740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خَلَقَ الْجَانَّ مِنْ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مَارِجٍ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مِنْ نَارٍ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رحمن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15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858000" y="3809880"/>
            <a:ext cx="13651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مَارِجٍ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4952880" y="3809880"/>
            <a:ext cx="164484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لهب خال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971800" y="3809880"/>
            <a:ext cx="17510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خليط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1143000" y="3809880"/>
            <a:ext cx="16527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صلصال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329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0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66" dur="500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68" dur="8830" fill="hold"/>
                                        <p:tgtEl>
                                          <p:spTgt spid="3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9" fill="hold">
                      <p:stCondLst>
                        <p:cond delay="indefinite"/>
                      </p:stCondLst>
                      <p:childTnLst>
                        <p:par>
                          <p:cTn id="1170" fill="hold">
                            <p:stCondLst>
                              <p:cond delay="0"/>
                            </p:stCondLst>
                            <p:childTnLst>
                              <p:par>
                                <p:cTn id="117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3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4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75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6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79" dur="80"/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80" dur="80"/>
                                        <p:tgtEl>
                                          <p:spTgt spid="3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1" dur="80"/>
                                        <p:tgtEl>
                                          <p:spTgt spid="3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2" fill="hold">
                            <p:stCondLst>
                              <p:cond delay="1320"/>
                            </p:stCondLst>
                            <p:childTnLst>
                              <p:par>
                                <p:cTn id="1183" nodeType="after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5" dur="8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6" dur="8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7" dur="8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8" dur="8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1" nodeType="with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3" dur="800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4" dur="800" fill="hold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5" dur="800" fill="hold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6" dur="800" fill="hold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9" fill="hold">
                            <p:stCondLst>
                              <p:cond delay="2320"/>
                            </p:stCondLst>
                            <p:childTnLst>
                              <p:par>
                                <p:cTn id="1200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2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3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4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5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6" fill="hold">
                      <p:stCondLst>
                        <p:cond delay="indefinite"/>
                      </p:stCondLst>
                      <p:childTnLst>
                        <p:par>
                          <p:cTn id="1207" fill="hold">
                            <p:stCondLst>
                              <p:cond delay="0"/>
                            </p:stCondLst>
                            <p:childTnLst>
                              <p:par>
                                <p:cTn id="1208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209" dur="80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10" dur="80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1" dur="80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214" dur="80"/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15" dur="80"/>
                                        <p:tgtEl>
                                          <p:spTgt spid="3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6" dur="80"/>
                                        <p:tgtEl>
                                          <p:spTgt spid="3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8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219" dur="80"/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20" dur="80"/>
                                        <p:tgtEl>
                                          <p:spTgt spid="3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1" dur="80"/>
                                        <p:tgtEl>
                                          <p:spTgt spid="3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331" name=""/>
          <p:cNvSpPr/>
          <p:nvPr/>
        </p:nvSpPr>
        <p:spPr>
          <a:xfrm>
            <a:off x="609480" y="182880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مَرَجَ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الْبَحْرَيْنِ يَلْتَقِيَانِ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رحمن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19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6553080" y="3657600"/>
            <a:ext cx="14367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مَرَجَ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2666880" y="3657600"/>
            <a:ext cx="15242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خليط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4572000" y="3657600"/>
            <a:ext cx="16304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شاط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838080" y="3657600"/>
            <a:ext cx="14828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متدا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23" dur="indefinite" restart="never" nodeType="tmRoot">
          <p:childTnLst>
            <p:seq>
              <p:cTn id="1224" dur="indefinite" nodeType="mainSeq">
                <p:childTnLst>
                  <p:par>
                    <p:cTn id="1225" fill="hold">
                      <p:stCondLst>
                        <p:cond delay="0"/>
                      </p:stCondLst>
                      <p:childTnLst>
                        <p:par>
                          <p:cTn id="1226" fill="hold">
                            <p:stCondLst>
                              <p:cond delay="0"/>
                            </p:stCondLst>
                            <p:childTnLst>
                              <p:par>
                                <p:cTn id="122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31" dur="10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33" dur="4075" fill="hold"/>
                                        <p:tgtEl>
                                          <p:spTgt spid="3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4" fill="hold">
                      <p:stCondLst>
                        <p:cond delay="indefinite"/>
                      </p:stCondLst>
                      <p:childTnLst>
                        <p:par>
                          <p:cTn id="1235" fill="hold">
                            <p:stCondLst>
                              <p:cond delay="0"/>
                            </p:stCondLst>
                            <p:childTnLst>
                              <p:par>
                                <p:cTn id="123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8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9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0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1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2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3" fill="hold">
                            <p:stCondLst>
                              <p:cond delay="500"/>
                            </p:stCondLst>
                            <p:childTnLst>
                              <p:par>
                                <p:cTn id="124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46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7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50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1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4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5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6" fill="hold">
                            <p:stCondLst>
                              <p:cond delay="2000"/>
                            </p:stCondLst>
                            <p:childTnLst>
                              <p:par>
                                <p:cTn id="125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9" dur="500" fill="hold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0" dur="500" fill="hold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1" fill="hold">
                      <p:stCondLst>
                        <p:cond delay="indefinite"/>
                      </p:stCondLst>
                      <p:childTnLst>
                        <p:par>
                          <p:cTn id="1262" fill="hold">
                            <p:stCondLst>
                              <p:cond delay="0"/>
                            </p:stCondLst>
                            <p:childTnLst>
                              <p:par>
                                <p:cTn id="126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/>
          <p:nvPr/>
        </p:nvSpPr>
        <p:spPr>
          <a:xfrm>
            <a:off x="457200" y="144792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بَيْنَهُمَا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بَرْزَخٌ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لا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يَبْغِيَانِ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رحمن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20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6934320" y="3048120"/>
            <a:ext cx="13287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بَرْزَخٌ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934320" y="3962520"/>
            <a:ext cx="137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يَبْغِيَانِ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2971800" y="3048120"/>
            <a:ext cx="16286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حاج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4952880" y="3048120"/>
            <a:ext cx="17049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جبل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990720" y="304812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أرض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4952880" y="3962520"/>
            <a:ext cx="16923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تعديان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2971800" y="3962520"/>
            <a:ext cx="1631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ظلما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990720" y="396252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فترقا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85800" y="4648320"/>
            <a:ext cx="7559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cs typeface="Arial"/>
              </a:rPr>
              <a:t>المقصود أنه بينهما حاجز يمنع كل منهما من التعدي على الأخر لا البحر المالح يتعدى على البحر العذب فيغشيه ويبدله مالحاً وتبطل بذلك الحياة  ، ويحجز البحرالعذب أن يزيد في الإنصباب على البحر المالح فيبدله ماءً عذبا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Arial"/>
                <a:cs typeface="Arial"/>
              </a:rPr>
              <a:t>فتبطل بذلك مصلحة ملوحته من تطهير الهواء وغيره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1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352" name="" descr=""/>
          <p:cNvPicPr/>
          <p:nvPr/>
        </p:nvPicPr>
        <p:blipFill>
          <a:blip r:embed="rId3"/>
          <a:stretch/>
        </p:blipFill>
        <p:spPr>
          <a:xfrm>
            <a:off x="4648320" y="22860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69" dur="indefinite" restart="never" nodeType="tmRoot">
          <p:childTnLst>
            <p:seq>
              <p:cTn id="1270" dur="indefinite" nodeType="mainSeq">
                <p:childTnLst>
                  <p:par>
                    <p:cTn id="1271" fill="hold">
                      <p:stCondLst>
                        <p:cond delay="0"/>
                      </p:stCondLst>
                      <p:childTnLst>
                        <p:par>
                          <p:cTn id="1272" fill="hold">
                            <p:stCondLst>
                              <p:cond delay="0"/>
                            </p:stCondLst>
                            <p:childTnLst>
                              <p:par>
                                <p:cTn id="127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75" dur="500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77" dur="4494" fill="hold"/>
                                        <p:tgtEl>
                                          <p:spTgt spid="3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8" fill="hold">
                      <p:stCondLst>
                        <p:cond delay="indefinite"/>
                      </p:stCondLst>
                      <p:childTnLst>
                        <p:par>
                          <p:cTn id="1279" fill="hold">
                            <p:stCondLst>
                              <p:cond delay="0"/>
                            </p:stCondLst>
                            <p:childTnLst>
                              <p:par>
                                <p:cTn id="128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2" dur="8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3" dur="8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4" dur="8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5" dur="8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1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2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3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4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7" dur="500" fill="hold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8" dur="500" fill="hold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9" dur="500" fill="hold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0" dur="500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1" fill="hold">
                            <p:stCondLst>
                              <p:cond delay="1500"/>
                            </p:stCondLst>
                            <p:childTnLst>
                              <p:par>
                                <p:cTn id="130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04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5" fill="hold">
                            <p:stCondLst>
                              <p:cond delay="2000"/>
                            </p:stCondLst>
                            <p:childTnLst>
                              <p:par>
                                <p:cTn id="130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8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9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0" fill="hold">
                      <p:stCondLst>
                        <p:cond delay="indefinite"/>
                      </p:stCondLst>
                      <p:childTnLst>
                        <p:par>
                          <p:cTn id="1311" fill="hold">
                            <p:stCondLst>
                              <p:cond delay="0"/>
                            </p:stCondLst>
                            <p:childTnLst>
                              <p:par>
                                <p:cTn id="1312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13" dur="1000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4" dur="1000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15" dur="1000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7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18" dur="1000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9" dur="1000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20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2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23" dur="1000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4" dur="1000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25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7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8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32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3" fill="hold">
                            <p:stCondLst>
                              <p:cond delay="2000"/>
                            </p:stCondLst>
                            <p:childTnLst>
                              <p:par>
                                <p:cTn id="133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36" dur="80"/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37" dur="80"/>
                                        <p:tgtEl>
                                          <p:spTgt spid="3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38" dur="80"/>
                                        <p:tgtEl>
                                          <p:spTgt spid="3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9" fill="hold">
                            <p:stCondLst>
                              <p:cond delay="2320"/>
                            </p:stCondLst>
                            <p:childTnLst>
                              <p:par>
                                <p:cTn id="134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2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3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4" fill="hold">
                            <p:stCondLst>
                              <p:cond delay="2820"/>
                            </p:stCondLst>
                            <p:childTnLst>
                              <p:par>
                                <p:cTn id="134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7" dur="500" fill="hold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8" dur="500" fill="hold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9" fill="hold">
                            <p:stCondLst>
                              <p:cond delay="3320"/>
                            </p:stCondLst>
                            <p:childTnLst>
                              <p:par>
                                <p:cTn id="135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2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3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4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5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6" fill="hold">
                      <p:stCondLst>
                        <p:cond delay="indefinite"/>
                      </p:stCondLst>
                      <p:childTnLst>
                        <p:par>
                          <p:cTn id="1357" fill="hold">
                            <p:stCondLst>
                              <p:cond delay="0"/>
                            </p:stCondLst>
                            <p:childTnLst>
                              <p:par>
                                <p:cTn id="135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4" fill="hold">
                            <p:stCondLst>
                              <p:cond delay="0"/>
                            </p:stCondLst>
                            <p:childTnLst>
                              <p:par>
                                <p:cTn id="13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7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354" name=""/>
          <p:cNvSpPr/>
          <p:nvPr/>
        </p:nvSpPr>
        <p:spPr>
          <a:xfrm>
            <a:off x="609480" y="1981080"/>
            <a:ext cx="7696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لَهُ الْجَوَارِ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الْمُنْشَآتُ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فِي الْبَحْرِ كَالْأَعْلامِ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              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رحمن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24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825600" y="3581280"/>
            <a:ext cx="16574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الْمُنْشَآتُ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990720" y="3581280"/>
            <a:ext cx="177300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مصنوعا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105520" y="3581280"/>
            <a:ext cx="16761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كبيرا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048120" y="3581280"/>
            <a:ext cx="175248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مرفوعا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68" dur="indefinite" restart="never" nodeType="tmRoot">
          <p:childTnLst>
            <p:seq>
              <p:cTn id="1369" dur="indefinite" nodeType="mainSeq">
                <p:childTnLst>
                  <p:par>
                    <p:cTn id="1370" fill="hold">
                      <p:stCondLst>
                        <p:cond delay="0"/>
                      </p:stCondLst>
                      <p:childTnLst>
                        <p:par>
                          <p:cTn id="1371" fill="hold">
                            <p:stCondLst>
                              <p:cond delay="0"/>
                            </p:stCondLst>
                            <p:childTnLst>
                              <p:par>
                                <p:cTn id="137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4" dur="10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5" dur="10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76" dur="1000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78" dur="6636" fill="hold"/>
                                        <p:tgtEl>
                                          <p:spTgt spid="3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9" fill="hold">
                      <p:stCondLst>
                        <p:cond delay="indefinite"/>
                      </p:stCondLst>
                      <p:childTnLst>
                        <p:par>
                          <p:cTn id="1380" fill="hold">
                            <p:stCondLst>
                              <p:cond delay="0"/>
                            </p:stCondLst>
                            <p:childTnLst>
                              <p:par>
                                <p:cTn id="138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83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4" fill="hold">
                            <p:stCondLst>
                              <p:cond delay="500"/>
                            </p:stCondLst>
                            <p:childTnLst>
                              <p:par>
                                <p:cTn id="138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9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3" dur="500" fill="hold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4" dur="500" fill="hold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5" dur="500" fill="hold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6" dur="500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7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0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2" fill="hold">
                            <p:stCondLst>
                              <p:cond delay="1500"/>
                            </p:stCondLst>
                            <p:childTnLst>
                              <p:par>
                                <p:cTn id="140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05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6" fill="hold">
                      <p:stCondLst>
                        <p:cond delay="indefinite"/>
                      </p:stCondLst>
                      <p:childTnLst>
                        <p:par>
                          <p:cTn id="1407" fill="hold">
                            <p:stCondLst>
                              <p:cond delay="0"/>
                            </p:stCondLst>
                            <p:childTnLst>
                              <p:par>
                                <p:cTn id="1408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09" dur="1000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0" dur="1000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11" dur="1000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3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14" dur="1000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5" dur="1000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16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8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19" dur="1000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0" dur="1000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2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363" name=""/>
          <p:cNvSpPr/>
          <p:nvPr/>
        </p:nvSpPr>
        <p:spPr>
          <a:xfrm>
            <a:off x="609480" y="220968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يُرْسَلُ عَلَيْكُمَا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شُوَاظٌ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مِنْ نَارٍ وَنُحَاسٌ فَلا تَنْتَصِرَانِ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 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رحمن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35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7010280" y="4038480"/>
            <a:ext cx="124164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شُوَاظٌ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952880" y="4038480"/>
            <a:ext cx="17272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لهب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819520" y="4038480"/>
            <a:ext cx="18288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دخان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838080" y="4038480"/>
            <a:ext cx="16336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حمم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370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23" dur="indefinite" restart="never" nodeType="tmRoot">
          <p:childTnLst>
            <p:seq>
              <p:cTn id="1424" dur="indefinite" nodeType="mainSeq">
                <p:childTnLst>
                  <p:par>
                    <p:cTn id="1425" fill="hold">
                      <p:stCondLst>
                        <p:cond delay="0"/>
                      </p:stCondLst>
                      <p:childTnLst>
                        <p:par>
                          <p:cTn id="1426" fill="hold">
                            <p:stCondLst>
                              <p:cond delay="0"/>
                            </p:stCondLst>
                            <p:childTnLst>
                              <p:par>
                                <p:cTn id="142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9" dur="5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0" dur="5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32" dur="10502" fill="hold"/>
                                        <p:tgtEl>
                                          <p:spTgt spid="3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3" fill="hold">
                      <p:stCondLst>
                        <p:cond delay="indefinite"/>
                      </p:stCondLst>
                      <p:childTnLst>
                        <p:par>
                          <p:cTn id="1434" fill="hold">
                            <p:stCondLst>
                              <p:cond delay="0"/>
                            </p:stCondLst>
                            <p:childTnLst>
                              <p:par>
                                <p:cTn id="143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9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0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1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2" fill="hold">
                            <p:stCondLst>
                              <p:cond delay="500"/>
                            </p:stCondLst>
                            <p:childTnLst>
                              <p:par>
                                <p:cTn id="144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45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6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4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0" fill="hold">
                            <p:stCondLst>
                              <p:cond delay="1500"/>
                            </p:stCondLst>
                            <p:childTnLst>
                              <p:par>
                                <p:cTn id="145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3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4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5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6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9" dur="5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0" dur="5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1" dur="5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2" dur="500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3" fill="hold">
                      <p:stCondLst>
                        <p:cond delay="indefinite"/>
                      </p:stCondLst>
                      <p:childTnLst>
                        <p:par>
                          <p:cTn id="1464" fill="hold">
                            <p:stCondLst>
                              <p:cond delay="0"/>
                            </p:stCondLst>
                            <p:childTnLst>
                              <p:par>
                                <p:cTn id="1465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466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8" fill="hold">
                            <p:stCondLst>
                              <p:cond delay="500"/>
                            </p:stCondLst>
                            <p:childTnLst>
                              <p:par>
                                <p:cTn id="1469" nodeType="after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70" dur="1000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1" dur="1000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72" dur="1000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4" fill="hold">
                            <p:stCondLst>
                              <p:cond delay="1500"/>
                            </p:stCondLst>
                            <p:childTnLst>
                              <p:par>
                                <p:cTn id="1475" nodeType="after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76" dur="1000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7" dur="1000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78" dur="1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372" name=""/>
          <p:cNvSpPr/>
          <p:nvPr/>
        </p:nvSpPr>
        <p:spPr>
          <a:xfrm>
            <a:off x="838080" y="1752480"/>
            <a:ext cx="7467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فَإِذَا انْشَقَّتِ السَّمَاءُ فَكَانَتْ وَرْدَةً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كَالدِّهَانِ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        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رحمن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37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6797880" y="3505320"/>
            <a:ext cx="1506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كَالدِّهَانِ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5105520" y="3505320"/>
            <a:ext cx="1546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كالأدي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3124080" y="3505320"/>
            <a:ext cx="16336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كالسوا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1143000" y="3505320"/>
            <a:ext cx="15987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كالدخا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1425600" y="4572000"/>
            <a:ext cx="64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ea typeface="Arial"/>
              </a:rPr>
              <a:t> الدهان المراد به الأديم الأحمر وهو الجلد المصبوغ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380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80" dur="indefinite" restart="never" nodeType="tmRoot">
          <p:childTnLst>
            <p:seq>
              <p:cTn id="1481" dur="indefinite" nodeType="mainSeq">
                <p:childTnLst>
                  <p:par>
                    <p:cTn id="1482" fill="hold">
                      <p:stCondLst>
                        <p:cond delay="0"/>
                      </p:stCondLst>
                      <p:childTnLst>
                        <p:par>
                          <p:cTn id="1483" fill="hold">
                            <p:stCondLst>
                              <p:cond delay="0"/>
                            </p:stCondLst>
                            <p:childTnLst>
                              <p:par>
                                <p:cTn id="148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6" dur="1000" fill="hold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7" dur="1000" fill="hold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88" dur="1000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90" dur="8830" fill="hold"/>
                                        <p:tgtEl>
                                          <p:spTgt spid="3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1" fill="hold">
                      <p:stCondLst>
                        <p:cond delay="indefinite"/>
                      </p:stCondLst>
                      <p:childTnLst>
                        <p:par>
                          <p:cTn id="1492" fill="hold">
                            <p:stCondLst>
                              <p:cond delay="0"/>
                            </p:stCondLst>
                            <p:childTnLst>
                              <p:par>
                                <p:cTn id="149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95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6" fill="hold">
                            <p:stCondLst>
                              <p:cond delay="500"/>
                            </p:stCondLst>
                            <p:childTnLst>
                              <p:par>
                                <p:cTn id="1497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01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2" fill="hold">
                            <p:stCondLst>
                              <p:cond delay="1500"/>
                            </p:stCondLst>
                            <p:childTnLst>
                              <p:par>
                                <p:cTn id="150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5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6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7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8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51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2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3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4" fill="hold">
                      <p:stCondLst>
                        <p:cond delay="indefinite"/>
                      </p:stCondLst>
                      <p:childTnLst>
                        <p:par>
                          <p:cTn id="1515" fill="hold">
                            <p:stCondLst>
                              <p:cond delay="0"/>
                            </p:stCondLst>
                            <p:childTnLst>
                              <p:par>
                                <p:cTn id="1516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8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0" fill="hold">
                            <p:stCondLst>
                              <p:cond delay="0"/>
                            </p:stCondLst>
                            <p:childTnLst>
                              <p:par>
                                <p:cTn id="15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3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685800" y="1828800"/>
            <a:ext cx="754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إِنْ هُوَ إِلَّا وَحْيٌ يُوحَى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عَلَّمَهُ شَدِيدُ الْقُوَى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ذُو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مِرَّةٍ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فَاسْتَوَى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ا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لنجم: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4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و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5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و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6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934320" y="3505320"/>
            <a:ext cx="12603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مِرَّةٍ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876920" y="3505320"/>
            <a:ext cx="180792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شدةٍ وحصافةٍ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684160" y="3505320"/>
            <a:ext cx="20628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ضعفٍ وخوفٍ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62120" y="3505320"/>
            <a:ext cx="17557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حزنٍ وألمٍ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838080" y="4495680"/>
            <a:ext cx="7409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ea typeface="Arial"/>
              </a:rPr>
              <a:t> المراد بذو مرة جبريل (ع) والمعنى أنه ذوشدَّة في جنب الله وهو ذو حصافة في رأيه وعقله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4419720" y="12952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" dur="1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" dur="1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5" dur="11338" fill="hold"/>
                                        <p:tgtEl>
                                          <p:spTgt spid="1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500"/>
                            </p:stCondLst>
                            <p:childTnLst>
                              <p:par>
                                <p:cTn id="7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2000"/>
                            </p:stCondLst>
                            <p:childTnLst>
                              <p:par>
                                <p:cTn id="8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89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0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94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5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400"/>
                            </p:stCondLst>
                            <p:childTnLst>
                              <p:par>
                                <p:cTn id="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382" name=""/>
          <p:cNvSpPr/>
          <p:nvPr/>
        </p:nvSpPr>
        <p:spPr>
          <a:xfrm>
            <a:off x="380880" y="175248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يُعْرَفُ الْمُجْرِمُونَ بِسِيمَاهُمْ فَيُؤْخَذُ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بِالنَّوَاصِي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وَالْأَقْدَامِ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رحمن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41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670440" y="3581280"/>
            <a:ext cx="16801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بِالنَّوَاصِي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4800600" y="3581280"/>
            <a:ext cx="18716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وج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315160" y="3581280"/>
            <a:ext cx="27547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شعر مقدم الرأ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838080" y="3581280"/>
            <a:ext cx="17528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اطرا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389" name="" descr=""/>
          <p:cNvPicPr/>
          <p:nvPr/>
        </p:nvPicPr>
        <p:blipFill>
          <a:blip r:embed="rId3"/>
          <a:stretch/>
        </p:blipFill>
        <p:spPr>
          <a:xfrm>
            <a:off x="2971800" y="23623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24" dur="indefinite" restart="never" nodeType="tmRoot">
          <p:childTnLst>
            <p:seq>
              <p:cTn id="1525" dur="indefinite" nodeType="mainSeq">
                <p:childTnLst>
                  <p:par>
                    <p:cTn id="1526" fill="hold">
                      <p:stCondLst>
                        <p:cond delay="0"/>
                      </p:stCondLst>
                      <p:childTnLst>
                        <p:par>
                          <p:cTn id="1527" fill="hold">
                            <p:stCondLst>
                              <p:cond delay="0"/>
                            </p:stCondLst>
                            <p:childTnLst>
                              <p:par>
                                <p:cTn id="152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30" dur="500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32" dur="8464" fill="hold"/>
                                        <p:tgtEl>
                                          <p:spTgt spid="3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3" fill="hold">
                      <p:stCondLst>
                        <p:cond delay="indefinite"/>
                      </p:stCondLst>
                      <p:childTnLst>
                        <p:par>
                          <p:cTn id="1534" fill="hold">
                            <p:stCondLst>
                              <p:cond delay="0"/>
                            </p:stCondLst>
                            <p:childTnLst>
                              <p:par>
                                <p:cTn id="153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39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54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43" dur="80"/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44" dur="80"/>
                                        <p:tgtEl>
                                          <p:spTgt spid="3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45" dur="80"/>
                                        <p:tgtEl>
                                          <p:spTgt spid="3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6" fill="hold">
                            <p:stCondLst>
                              <p:cond delay="1240"/>
                            </p:stCondLst>
                            <p:childTnLst>
                              <p:par>
                                <p:cTn id="154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49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0" fill="hold">
                            <p:stCondLst>
                              <p:cond delay="1740"/>
                            </p:stCondLst>
                            <p:childTnLst>
                              <p:par>
                                <p:cTn id="155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3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4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5" fill="hold">
                      <p:stCondLst>
                        <p:cond delay="indefinite"/>
                      </p:stCondLst>
                      <p:childTnLst>
                        <p:par>
                          <p:cTn id="1556" fill="hold">
                            <p:stCondLst>
                              <p:cond delay="0"/>
                            </p:stCondLst>
                            <p:childTnLst>
                              <p:par>
                                <p:cTn id="1557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558" dur="80"/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59" dur="80"/>
                                        <p:tgtEl>
                                          <p:spTgt spid="3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60" dur="80"/>
                                        <p:tgtEl>
                                          <p:spTgt spid="3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561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2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563" dur="80"/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64" dur="80"/>
                                        <p:tgtEl>
                                          <p:spTgt spid="3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65" dur="80"/>
                                        <p:tgtEl>
                                          <p:spTgt spid="3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566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/>
          <p:nvPr/>
        </p:nvSpPr>
        <p:spPr>
          <a:xfrm>
            <a:off x="762120" y="1506600"/>
            <a:ext cx="74674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لِمَنْ خَافَ مَقَامَ رَبِّهِ جَنَّتَانِ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</a:t>
            </a:r>
            <a:r>
              <a:rPr b="0" lang="ar-LB" sz="2800" spc="-1" strike="noStrike">
                <a:solidFill>
                  <a:srgbClr val="010199"/>
                </a:solidFill>
                <a:latin typeface="Wingdings 2"/>
                <a:ea typeface="Wingdings 2"/>
              </a:rPr>
              <a:t>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فَبِأَيِّ آَلَاءِ رَبِّكُمَا تُكَذِّبَانِ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Wingdings 2"/>
                <a:ea typeface="Wingdings 2"/>
              </a:rPr>
              <a:t>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ذَوَاتَا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أَفْنَانٍ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رحمن: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46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و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47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و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48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6934320" y="3429000"/>
            <a:ext cx="12952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أَفْنَانٍ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990720" y="3429000"/>
            <a:ext cx="16128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أنوا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5029200" y="3429000"/>
            <a:ext cx="1577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ثما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2971800" y="3429000"/>
            <a:ext cx="17287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نغا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7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398" name="" descr=""/>
          <p:cNvPicPr/>
          <p:nvPr/>
        </p:nvPicPr>
        <p:blipFill>
          <a:blip r:embed="rId3"/>
          <a:stretch/>
        </p:blipFill>
        <p:spPr>
          <a:xfrm>
            <a:off x="4419720" y="26668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67" dur="indefinite" restart="never" nodeType="tmRoot">
          <p:childTnLst>
            <p:seq>
              <p:cTn id="1568" dur="indefinite" nodeType="mainSeq">
                <p:childTnLst>
                  <p:par>
                    <p:cTn id="1569" fill="hold">
                      <p:stCondLst>
                        <p:cond delay="0"/>
                      </p:stCondLst>
                      <p:childTnLst>
                        <p:par>
                          <p:cTn id="1570" fill="hold">
                            <p:stCondLst>
                              <p:cond delay="0"/>
                            </p:stCondLst>
                            <p:childTnLst>
                              <p:par>
                                <p:cTn id="157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3" dur="800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4" dur="800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5" dur="800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6" dur="800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1" dur="800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2" dur="800" fill="hold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3" dur="800" fill="hold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4" dur="800" fill="hold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8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88" dur="16405" fill="hold"/>
                                        <p:tgtEl>
                                          <p:spTgt spid="3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9" fill="hold">
                      <p:stCondLst>
                        <p:cond delay="indefinite"/>
                      </p:stCondLst>
                      <p:childTnLst>
                        <p:par>
                          <p:cTn id="1590" fill="hold">
                            <p:stCondLst>
                              <p:cond delay="0"/>
                            </p:stCondLst>
                            <p:childTnLst>
                              <p:par>
                                <p:cTn id="159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3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4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5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6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7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8" fill="hold">
                            <p:stCondLst>
                              <p:cond delay="500"/>
                            </p:stCondLst>
                            <p:childTnLst>
                              <p:par>
                                <p:cTn id="159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01" dur="80"/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02" dur="80"/>
                                        <p:tgtEl>
                                          <p:spTgt spid="3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03" dur="80"/>
                                        <p:tgtEl>
                                          <p:spTgt spid="3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4" fill="hold">
                            <p:stCondLst>
                              <p:cond delay="700"/>
                            </p:stCondLst>
                            <p:childTnLst>
                              <p:par>
                                <p:cTn id="1605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7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8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1" nodeType="with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3" dur="500" fill="hold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4" dur="500" fill="hold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5" dur="500" fill="hold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6" dur="500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7" fill="hold">
                            <p:stCondLst>
                              <p:cond delay="1200"/>
                            </p:stCondLst>
                            <p:childTnLst>
                              <p:par>
                                <p:cTn id="161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0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1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2" fill="hold">
                      <p:stCondLst>
                        <p:cond delay="indefinite"/>
                      </p:stCondLst>
                      <p:childTnLst>
                        <p:par>
                          <p:cTn id="1623" fill="hold">
                            <p:stCondLst>
                              <p:cond delay="0"/>
                            </p:stCondLst>
                            <p:childTnLst>
                              <p:par>
                                <p:cTn id="1624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625" dur="80"/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26" dur="80"/>
                                        <p:tgtEl>
                                          <p:spTgt spid="3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27" dur="80"/>
                                        <p:tgtEl>
                                          <p:spTgt spid="3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628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9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630" dur="80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31" dur="80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32" dur="80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633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4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635" dur="80"/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36" dur="80"/>
                                        <p:tgtEl>
                                          <p:spTgt spid="3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37" dur="80"/>
                                        <p:tgtEl>
                                          <p:spTgt spid="3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638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533520" y="1371600"/>
            <a:ext cx="77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فِيهِنَّ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قَاصِرَاتُ الطَّرْفِ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لَمْ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يَطْمِثْهُنَّ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إِنْسٌ قَبْلَهُمْ وَلا جَانٌّ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رحمن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56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5781600" y="2743200"/>
            <a:ext cx="27500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قَاصِرَاتُ الطَّرْفِ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6019920" y="5181480"/>
            <a:ext cx="23050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يَطْمِثْهُنَّ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2565360" y="5181480"/>
            <a:ext cx="15080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فضضهنّ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8480" y="5181480"/>
            <a:ext cx="14479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أخذهنّ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1143000" y="5181480"/>
            <a:ext cx="14479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لمسهنّ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1143000" y="3505320"/>
            <a:ext cx="42800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نساء لا يردن غير أزواجهنّ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1143000" y="4316400"/>
            <a:ext cx="42973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نساء جميلا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143000" y="2743200"/>
            <a:ext cx="43038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حور من الجن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0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411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39" dur="indefinite" restart="never" nodeType="tmRoot">
          <p:childTnLst>
            <p:seq>
              <p:cTn id="1640" dur="indefinite" nodeType="mainSeq">
                <p:childTnLst>
                  <p:par>
                    <p:cTn id="1641" fill="hold">
                      <p:stCondLst>
                        <p:cond delay="0"/>
                      </p:stCondLst>
                      <p:childTnLst>
                        <p:par>
                          <p:cTn id="1642" fill="hold">
                            <p:stCondLst>
                              <p:cond delay="0"/>
                            </p:stCondLst>
                            <p:childTnLst>
                              <p:par>
                                <p:cTn id="164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5" dur="1000" fill="hold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6" dur="1000" fill="hold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47" dur="1000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49" dur="13009" fill="hold"/>
                                        <p:tgtEl>
                                          <p:spTgt spid="4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0" fill="hold">
                      <p:stCondLst>
                        <p:cond delay="indefinite"/>
                      </p:stCondLst>
                      <p:childTnLst>
                        <p:par>
                          <p:cTn id="1651" fill="hold">
                            <p:stCondLst>
                              <p:cond delay="0"/>
                            </p:stCondLst>
                            <p:childTnLst>
                              <p:par>
                                <p:cTn id="165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4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5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6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7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8" fill="hold">
                            <p:stCondLst>
                              <p:cond delay="500"/>
                            </p:stCondLst>
                            <p:childTnLst>
                              <p:par>
                                <p:cTn id="1659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1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2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3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4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5" nodeType="with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7" dur="500" fill="hold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8" dur="500" fill="hold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9" dur="500" fill="hold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0" dur="500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67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74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5" fill="hold">
                            <p:stCondLst>
                              <p:cond delay="1500"/>
                            </p:stCondLst>
                            <p:childTnLst>
                              <p:par>
                                <p:cTn id="1676" nodeType="afterEffect" fill="hold" presetClass="entr" presetID="3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8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9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0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1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2" fill="hold">
                      <p:stCondLst>
                        <p:cond delay="indefinite"/>
                      </p:stCondLst>
                      <p:childTnLst>
                        <p:par>
                          <p:cTn id="1683" fill="hold">
                            <p:stCondLst>
                              <p:cond delay="0"/>
                            </p:stCondLst>
                            <p:childTnLst>
                              <p:par>
                                <p:cTn id="1684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685" dur="80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86" dur="80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87" dur="80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688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9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690" dur="80"/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91" dur="80"/>
                                        <p:tgtEl>
                                          <p:spTgt spid="4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92" dur="80"/>
                                        <p:tgtEl>
                                          <p:spTgt spid="4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693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4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695" dur="80"/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96" dur="80"/>
                                        <p:tgtEl>
                                          <p:spTgt spid="4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97" dur="80"/>
                                        <p:tgtEl>
                                          <p:spTgt spid="4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698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9" fill="hold">
                            <p:stCondLst>
                              <p:cond delay="440"/>
                            </p:stCondLst>
                            <p:childTnLst>
                              <p:par>
                                <p:cTn id="1700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7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7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704" dur="1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5" fill="hold">
                            <p:stCondLst>
                              <p:cond delay="1440"/>
                            </p:stCondLst>
                            <p:childTnLst>
                              <p:par>
                                <p:cTn id="170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8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9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0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1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2" fill="hold">
                            <p:stCondLst>
                              <p:cond delay="1940"/>
                            </p:stCondLst>
                            <p:childTnLst>
                              <p:par>
                                <p:cTn id="171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5" dur="500" fill="hold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6" dur="500" fill="hold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7" dur="500" fill="hold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8" dur="500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9" fill="hold">
                            <p:stCondLst>
                              <p:cond delay="2440"/>
                            </p:stCondLst>
                            <p:childTnLst>
                              <p:par>
                                <p:cTn id="172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2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3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4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5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6" fill="hold">
                            <p:stCondLst>
                              <p:cond delay="2940"/>
                            </p:stCondLst>
                            <p:childTnLst>
                              <p:par>
                                <p:cTn id="17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9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0" fill="hold">
                      <p:stCondLst>
                        <p:cond delay="indefinite"/>
                      </p:stCondLst>
                      <p:childTnLst>
                        <p:par>
                          <p:cTn id="1731" fill="hold">
                            <p:stCondLst>
                              <p:cond delay="0"/>
                            </p:stCondLst>
                            <p:childTnLst>
                              <p:par>
                                <p:cTn id="173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13" name=""/>
          <p:cNvSpPr/>
          <p:nvPr/>
        </p:nvSpPr>
        <p:spPr>
          <a:xfrm>
            <a:off x="838080" y="1278000"/>
            <a:ext cx="73152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مِنْ دُونِهِمَا جَنَّتَانِ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Wingdings 2"/>
                <a:ea typeface="Wingdings 2"/>
              </a:rPr>
              <a:t>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فَبِأَيِّ آَلَاءِ رَبِّكُمَا تُكَذِّبَانِ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Wingdings 2"/>
                <a:ea typeface="Wingdings 2"/>
              </a:rPr>
              <a:t>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Traditional Arabic"/>
              </a:rPr>
              <a:t>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مُدْهَامَّتَانِ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رحمن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64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6400800" y="2971800"/>
            <a:ext cx="161604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مُدْهَامَّتَانِ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447920" y="3886200"/>
            <a:ext cx="426564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شديدتا الخضرة المائلة للسوا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47920" y="3021120"/>
            <a:ext cx="42670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وسعهما على مد النظ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447920" y="4800600"/>
            <a:ext cx="42973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لونهما أخضر من الري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9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420" name="" descr=""/>
          <p:cNvPicPr/>
          <p:nvPr/>
        </p:nvPicPr>
        <p:blipFill>
          <a:blip r:embed="rId3"/>
          <a:stretch/>
        </p:blipFill>
        <p:spPr>
          <a:xfrm>
            <a:off x="2209680" y="1981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38" dur="indefinite" restart="never" nodeType="tmRoot">
          <p:childTnLst>
            <p:seq>
              <p:cTn id="1739" dur="indefinite" nodeType="mainSeq">
                <p:childTnLst>
                  <p:par>
                    <p:cTn id="1740" fill="hold">
                      <p:stCondLst>
                        <p:cond delay="0"/>
                      </p:stCondLst>
                      <p:childTnLst>
                        <p:par>
                          <p:cTn id="1741" fill="hold">
                            <p:stCondLst>
                              <p:cond delay="0"/>
                            </p:stCondLst>
                            <p:childTnLst>
                              <p:par>
                                <p:cTn id="174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44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46" dur="15465" fill="hold"/>
                                        <p:tgtEl>
                                          <p:spTgt spid="4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7" fill="hold">
                      <p:stCondLst>
                        <p:cond delay="indefinite"/>
                      </p:stCondLst>
                      <p:childTnLst>
                        <p:par>
                          <p:cTn id="1748" fill="hold">
                            <p:stCondLst>
                              <p:cond delay="0"/>
                            </p:stCondLst>
                            <p:childTnLst>
                              <p:par>
                                <p:cTn id="174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51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2" fill="hold">
                            <p:stCondLst>
                              <p:cond delay="500"/>
                            </p:stCondLst>
                            <p:childTnLst>
                              <p:par>
                                <p:cTn id="175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5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6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7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8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9" fill="hold">
                            <p:stCondLst>
                              <p:cond delay="1000"/>
                            </p:stCondLst>
                            <p:childTnLst>
                              <p:par>
                                <p:cTn id="176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62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3" fill="hold">
                            <p:stCondLst>
                              <p:cond delay="1500"/>
                            </p:stCondLst>
                            <p:childTnLst>
                              <p:par>
                                <p:cTn id="176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66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7" fill="hold">
                            <p:stCondLst>
                              <p:cond delay="2000"/>
                            </p:stCondLst>
                            <p:childTnLst>
                              <p:par>
                                <p:cTn id="176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70" dur="500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1" fill="hold">
                      <p:stCondLst>
                        <p:cond delay="indefinite"/>
                      </p:stCondLst>
                      <p:childTnLst>
                        <p:par>
                          <p:cTn id="1772" fill="hold">
                            <p:stCondLst>
                              <p:cond delay="0"/>
                            </p:stCondLst>
                            <p:childTnLst>
                              <p:par>
                                <p:cTn id="1773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74" dur="1000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5" dur="1000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76" dur="1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8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79" dur="1000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0" dur="1000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81" dur="1000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3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84" dur="1000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5" dur="1000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86" dur="1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22" name=""/>
          <p:cNvSpPr/>
          <p:nvPr/>
        </p:nvSpPr>
        <p:spPr>
          <a:xfrm>
            <a:off x="609480" y="1676520"/>
            <a:ext cx="769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فِيهِمَا عَيْنَانِ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ea typeface="Arial"/>
              </a:rPr>
              <a:t> نَضَّاخَتَانِ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رحمن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66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705720" y="3505320"/>
            <a:ext cx="145872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نَضَّاخَتَانِ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2895480" y="3505320"/>
            <a:ext cx="1533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فوارتا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800600" y="3505320"/>
            <a:ext cx="15559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لا تجفا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914400" y="3505320"/>
            <a:ext cx="1573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ترويا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8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429" name="" descr=""/>
          <p:cNvPicPr/>
          <p:nvPr/>
        </p:nvPicPr>
        <p:blipFill>
          <a:blip r:embed="rId3"/>
          <a:stretch/>
        </p:blipFill>
        <p:spPr>
          <a:xfrm>
            <a:off x="1371600" y="19051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88" dur="indefinite" restart="never" nodeType="tmRoot">
          <p:childTnLst>
            <p:seq>
              <p:cTn id="1789" dur="indefinite" nodeType="mainSeq">
                <p:childTnLst>
                  <p:par>
                    <p:cTn id="1790" fill="hold">
                      <p:stCondLst>
                        <p:cond delay="0"/>
                      </p:stCondLst>
                      <p:childTnLst>
                        <p:par>
                          <p:cTn id="1791" fill="hold">
                            <p:stCondLst>
                              <p:cond delay="0"/>
                            </p:stCondLst>
                            <p:childTnLst>
                              <p:par>
                                <p:cTn id="179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4" dur="500" fill="hold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5" dur="500" fill="hold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6" dur="500" fill="hold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7" dur="500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99" dur="4285" fill="hold"/>
                                        <p:tgtEl>
                                          <p:spTgt spid="4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0" fill="hold">
                      <p:stCondLst>
                        <p:cond delay="indefinite"/>
                      </p:stCondLst>
                      <p:childTnLst>
                        <p:par>
                          <p:cTn id="1801" fill="hold">
                            <p:stCondLst>
                              <p:cond delay="0"/>
                            </p:stCondLst>
                            <p:childTnLst>
                              <p:par>
                                <p:cTn id="180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04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5" fill="hold">
                            <p:stCondLst>
                              <p:cond delay="500"/>
                            </p:stCondLst>
                            <p:childTnLst>
                              <p:par>
                                <p:cTn id="180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8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9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2" dur="500" fill="hold"/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3" dur="500" fill="hold"/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815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7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8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9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0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1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2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3" nodeType="afterEffect" fill="hold" presetClass="entr" presetID="5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2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8" nodeType="withEffect" fill="hold" presetClass="entr" presetID="5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32" dur="1000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3" fill="hold">
                      <p:stCondLst>
                        <p:cond delay="indefinite"/>
                      </p:stCondLst>
                      <p:childTnLst>
                        <p:par>
                          <p:cTn id="1834" fill="hold">
                            <p:stCondLst>
                              <p:cond delay="0"/>
                            </p:stCondLst>
                            <p:childTnLst>
                              <p:par>
                                <p:cTn id="1835" nodeType="click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9" nodeType="with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31" name=""/>
          <p:cNvSpPr/>
          <p:nvPr/>
        </p:nvSpPr>
        <p:spPr>
          <a:xfrm>
            <a:off x="609480" y="175248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حُورٌ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مَقْصُورَاتٌ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فِي الْخِيَامِ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رحمن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72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6496920" y="3429000"/>
            <a:ext cx="18446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مَقْصُورَاتٌ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4648320" y="3429000"/>
            <a:ext cx="18968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صونا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666880" y="3429000"/>
            <a:ext cx="19051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كرما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685800" y="3429000"/>
            <a:ext cx="18907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قصيرا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7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438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43" dur="indefinite" restart="never" nodeType="tmRoot">
          <p:childTnLst>
            <p:seq>
              <p:cTn id="1844" dur="indefinite" nodeType="mainSeq">
                <p:childTnLst>
                  <p:par>
                    <p:cTn id="1845" fill="hold">
                      <p:stCondLst>
                        <p:cond delay="0"/>
                      </p:stCondLst>
                      <p:childTnLst>
                        <p:par>
                          <p:cTn id="1846" fill="hold">
                            <p:stCondLst>
                              <p:cond delay="0"/>
                            </p:stCondLst>
                            <p:childTnLst>
                              <p:par>
                                <p:cTn id="184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9" dur="1000" fill="hold"/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0" dur="1000" fill="hold"/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51" dur="1000"/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53" dur="5382" fill="hold"/>
                                        <p:tgtEl>
                                          <p:spTgt spid="4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4" fill="hold">
                      <p:stCondLst>
                        <p:cond delay="indefinite"/>
                      </p:stCondLst>
                      <p:childTnLst>
                        <p:par>
                          <p:cTn id="1855" fill="hold">
                            <p:stCondLst>
                              <p:cond delay="0"/>
                            </p:stCondLst>
                            <p:childTnLst>
                              <p:par>
                                <p:cTn id="185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8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9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0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1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2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3" fill="hold">
                            <p:stCondLst>
                              <p:cond delay="500"/>
                            </p:stCondLst>
                            <p:childTnLst>
                              <p:par>
                                <p:cTn id="18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6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6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70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87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4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5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6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7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8" fill="hold">
                            <p:stCondLst>
                              <p:cond delay="2000"/>
                            </p:stCondLst>
                            <p:childTnLst>
                              <p:par>
                                <p:cTn id="187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1" dur="500" fill="hold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2" dur="500" fill="hold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3" dur="500" fill="hold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4" dur="500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5" fill="hold">
                      <p:stCondLst>
                        <p:cond delay="indefinite"/>
                      </p:stCondLst>
                      <p:childTnLst>
                        <p:par>
                          <p:cTn id="1886" fill="hold">
                            <p:stCondLst>
                              <p:cond delay="0"/>
                            </p:stCondLst>
                            <p:childTnLst>
                              <p:par>
                                <p:cTn id="1887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88" dur="1000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9" dur="1000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90" dur="1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2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93" dur="1000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4" dur="1000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95" dur="1000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7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98" dur="1000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9" dur="1000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00" dur="1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40" name=""/>
          <p:cNvSpPr/>
          <p:nvPr/>
        </p:nvSpPr>
        <p:spPr>
          <a:xfrm>
            <a:off x="609480" y="167652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مُتَّكِئِينَ عَلَى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رَفْرَفٍ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خُضْرٍ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وَعَبْقَرِيٍّ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حِسَانٍ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      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رحمن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76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6828480" y="4267080"/>
            <a:ext cx="1524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وَعَبْقَرِيٍّ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71800" y="4267080"/>
            <a:ext cx="17859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نادر الوجو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4890600" y="4267080"/>
            <a:ext cx="18615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ثوب موش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914400" y="4267080"/>
            <a:ext cx="182880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بُسطٍ  ملون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6934320" y="3429000"/>
            <a:ext cx="126504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رَفْرَفٍ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914400" y="3429000"/>
            <a:ext cx="17524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بُسط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4952880" y="3429000"/>
            <a:ext cx="17528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قاع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971800" y="3429000"/>
            <a:ext cx="18194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طبقا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0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451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452" name=""/>
          <p:cNvSpPr/>
          <p:nvPr/>
        </p:nvSpPr>
        <p:spPr>
          <a:xfrm>
            <a:off x="1143000" y="5181480"/>
            <a:ext cx="685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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cs typeface="Arial"/>
              </a:rPr>
              <a:t>المقصود أن كل ما ندر وجوده ولا يمكن وصفه والتعبير عنه يقال له عبقري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02" dur="indefinite" restart="never" nodeType="tmRoot">
          <p:childTnLst>
            <p:seq>
              <p:cTn id="1903" dur="indefinite" nodeType="mainSeq">
                <p:childTnLst>
                  <p:par>
                    <p:cTn id="1904" fill="hold">
                      <p:stCondLst>
                        <p:cond delay="0"/>
                      </p:stCondLst>
                      <p:childTnLst>
                        <p:par>
                          <p:cTn id="1905" fill="hold">
                            <p:stCondLst>
                              <p:cond delay="0"/>
                            </p:stCondLst>
                            <p:childTnLst>
                              <p:par>
                                <p:cTn id="190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08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10" dur="7889" fill="hold"/>
                                        <p:tgtEl>
                                          <p:spTgt spid="4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1" fill="hold">
                      <p:stCondLst>
                        <p:cond delay="indefinite"/>
                      </p:stCondLst>
                      <p:childTnLst>
                        <p:par>
                          <p:cTn id="1912" fill="hold">
                            <p:stCondLst>
                              <p:cond delay="0"/>
                            </p:stCondLst>
                            <p:childTnLst>
                              <p:par>
                                <p:cTn id="191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5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6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17" dur="1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1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9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9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923" dur="1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4" fill="hold">
                            <p:stCondLst>
                              <p:cond delay="2000"/>
                            </p:stCondLst>
                            <p:childTnLst>
                              <p:par>
                                <p:cTn id="19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7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8" fill="hold">
                            <p:stCondLst>
                              <p:cond delay="2500"/>
                            </p:stCondLst>
                            <p:childTnLst>
                              <p:par>
                                <p:cTn id="192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31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2" fill="hold">
                      <p:stCondLst>
                        <p:cond delay="indefinite"/>
                      </p:stCondLst>
                      <p:childTnLst>
                        <p:par>
                          <p:cTn id="1933" fill="hold">
                            <p:stCondLst>
                              <p:cond delay="0"/>
                            </p:stCondLst>
                            <p:childTnLst>
                              <p:par>
                                <p:cTn id="193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8" fill="hold">
                            <p:stCondLst>
                              <p:cond delay="0"/>
                            </p:stCondLst>
                            <p:childTnLst>
                              <p:par>
                                <p:cTn id="193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41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2" fill="hold">
                            <p:stCondLst>
                              <p:cond delay="500"/>
                            </p:stCondLst>
                            <p:childTnLst>
                              <p:par>
                                <p:cTn id="194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45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6" fill="hold">
                            <p:stCondLst>
                              <p:cond delay="1000"/>
                            </p:stCondLst>
                            <p:childTnLst>
                              <p:par>
                                <p:cTn id="194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9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0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1" fill="hold">
                            <p:stCondLst>
                              <p:cond delay="1500"/>
                            </p:stCondLst>
                            <p:childTnLst>
                              <p:par>
                                <p:cTn id="1952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9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9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956" dur="1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7" fill="hold">
                      <p:stCondLst>
                        <p:cond delay="indefinite"/>
                      </p:stCondLst>
                      <p:childTnLst>
                        <p:par>
                          <p:cTn id="1958" fill="hold">
                            <p:stCondLst>
                              <p:cond delay="0"/>
                            </p:stCondLst>
                            <p:childTnLst>
                              <p:par>
                                <p:cTn id="195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3" fill="hold">
                            <p:stCondLst>
                              <p:cond delay="0"/>
                            </p:stCondLst>
                            <p:childTnLst>
                              <p:par>
                                <p:cTn id="19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6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3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54" name=""/>
          <p:cNvSpPr/>
          <p:nvPr/>
        </p:nvSpPr>
        <p:spPr>
          <a:xfrm>
            <a:off x="609480" y="1600200"/>
            <a:ext cx="74678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إِذَا رُجَّتِ الْأَرْضُ رَجًّا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Wingdings 2"/>
                <a:ea typeface="Wingdings 2"/>
              </a:rPr>
              <a:t>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Traditional Arabic"/>
              </a:rPr>
              <a:t>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وَبُسَّتِ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الْجِبَالُ بَسّاً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واقعة: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4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و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5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6858000" y="3505320"/>
            <a:ext cx="130320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وَبُسَّتِ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895480" y="3505320"/>
            <a:ext cx="16988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وفتَّ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4952880" y="3505320"/>
            <a:ext cx="16462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ودار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914400" y="3505320"/>
            <a:ext cx="16574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وأخذ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0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461" name="" descr=""/>
          <p:cNvPicPr/>
          <p:nvPr/>
        </p:nvPicPr>
        <p:blipFill>
          <a:blip r:embed="rId3"/>
          <a:stretch/>
        </p:blipFill>
        <p:spPr>
          <a:xfrm>
            <a:off x="2819520" y="20574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67" dur="indefinite" restart="never" nodeType="tmRoot">
          <p:childTnLst>
            <p:seq>
              <p:cTn id="1968" dur="indefinite" nodeType="mainSeq">
                <p:childTnLst>
                  <p:par>
                    <p:cTn id="1969" fill="hold">
                      <p:stCondLst>
                        <p:cond delay="0"/>
                      </p:stCondLst>
                      <p:childTnLst>
                        <p:par>
                          <p:cTn id="1970" fill="hold">
                            <p:stCondLst>
                              <p:cond delay="0"/>
                            </p:stCondLst>
                            <p:childTnLst>
                              <p:par>
                                <p:cTn id="197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3" dur="500" fill="hold"/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4" dur="500" fill="hold"/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5" dur="500" fill="hold"/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6" dur="500"/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9" dur="500" fill="hold"/>
                                        <p:tgtEl>
                                          <p:spTgt spid="4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0" dur="500" fill="hold"/>
                                        <p:tgtEl>
                                          <p:spTgt spid="4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1" dur="500" fill="hold"/>
                                        <p:tgtEl>
                                          <p:spTgt spid="4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2" dur="500"/>
                                        <p:tgtEl>
                                          <p:spTgt spid="4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84" dur="7001" fill="hold"/>
                                        <p:tgtEl>
                                          <p:spTgt spid="4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5" fill="hold">
                      <p:stCondLst>
                        <p:cond delay="indefinite"/>
                      </p:stCondLst>
                      <p:childTnLst>
                        <p:par>
                          <p:cTn id="1986" fill="hold">
                            <p:stCondLst>
                              <p:cond delay="0"/>
                            </p:stCondLst>
                            <p:childTnLst>
                              <p:par>
                                <p:cTn id="19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9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0" fill="hold">
                            <p:stCondLst>
                              <p:cond delay="500"/>
                            </p:stCondLst>
                            <p:childTnLst>
                              <p:par>
                                <p:cTn id="1991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9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9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995" dur="1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6" fill="hold">
                            <p:stCondLst>
                              <p:cond delay="1500"/>
                            </p:stCondLst>
                            <p:childTnLst>
                              <p:par>
                                <p:cTn id="199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99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0" fill="hold">
                            <p:stCondLst>
                              <p:cond delay="2000"/>
                            </p:stCondLst>
                            <p:childTnLst>
                              <p:par>
                                <p:cTn id="200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3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4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5" fill="hold">
                      <p:stCondLst>
                        <p:cond delay="indefinite"/>
                      </p:stCondLst>
                      <p:childTnLst>
                        <p:par>
                          <p:cTn id="2006" fill="hold">
                            <p:stCondLst>
                              <p:cond delay="0"/>
                            </p:stCondLst>
                            <p:childTnLst>
                              <p:par>
                                <p:cTn id="200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2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63" name=""/>
          <p:cNvSpPr/>
          <p:nvPr/>
        </p:nvSpPr>
        <p:spPr>
          <a:xfrm>
            <a:off x="685800" y="198108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فَكَانَتْ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هَبَاءً مُنْبَثّاً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واقع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6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6781680" y="3276720"/>
            <a:ext cx="13226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هَبَاءً 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6781680" y="4191120"/>
            <a:ext cx="13305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مُنْبَثّاً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1066680" y="3276720"/>
            <a:ext cx="16336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غبار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2971800" y="4191120"/>
            <a:ext cx="16444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جتمع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4876920" y="3276720"/>
            <a:ext cx="15476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سراباً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971800" y="3276720"/>
            <a:ext cx="16239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هدراً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1066680" y="4191120"/>
            <a:ext cx="16351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نقلع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4876920" y="4191120"/>
            <a:ext cx="15523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نتشر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3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474" name="" descr=""/>
          <p:cNvPicPr/>
          <p:nvPr/>
        </p:nvPicPr>
        <p:blipFill>
          <a:blip r:embed="rId3"/>
          <a:stretch/>
        </p:blipFill>
        <p:spPr>
          <a:xfrm>
            <a:off x="4267080" y="2895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11" dur="indefinite" restart="never" nodeType="tmRoot">
          <p:childTnLst>
            <p:seq>
              <p:cTn id="2012" dur="indefinite" nodeType="mainSeq">
                <p:childTnLst>
                  <p:par>
                    <p:cTn id="2013" fill="hold">
                      <p:stCondLst>
                        <p:cond delay="0"/>
                      </p:stCondLst>
                      <p:childTnLst>
                        <p:par>
                          <p:cTn id="2014" fill="hold">
                            <p:stCondLst>
                              <p:cond delay="0"/>
                            </p:stCondLst>
                            <p:childTnLst>
                              <p:par>
                                <p:cTn id="201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17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19" dur="5956" fill="hold"/>
                                        <p:tgtEl>
                                          <p:spTgt spid="4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0" fill="hold">
                      <p:stCondLst>
                        <p:cond delay="indefinite"/>
                      </p:stCondLst>
                      <p:childTnLst>
                        <p:par>
                          <p:cTn id="2021" fill="hold">
                            <p:stCondLst>
                              <p:cond delay="0"/>
                            </p:stCondLst>
                            <p:childTnLst>
                              <p:par>
                                <p:cTn id="202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0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0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026" dur="1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02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0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1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2" fill="hold">
                            <p:stCondLst>
                              <p:cond delay="1500"/>
                            </p:stCondLst>
                            <p:childTnLst>
                              <p:par>
                                <p:cTn id="203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5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6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7" fill="hold">
                            <p:stCondLst>
                              <p:cond delay="2000"/>
                            </p:stCondLst>
                            <p:childTnLst>
                              <p:par>
                                <p:cTn id="203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40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1" fill="hold">
                      <p:stCondLst>
                        <p:cond delay="indefinite"/>
                      </p:stCondLst>
                      <p:childTnLst>
                        <p:par>
                          <p:cTn id="2042" fill="hold">
                            <p:stCondLst>
                              <p:cond delay="0"/>
                            </p:stCondLst>
                            <p:childTnLst>
                              <p:par>
                                <p:cTn id="2043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44" dur="1000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5" dur="1000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46" dur="10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8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49" dur="1000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0" dur="1000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51" dur="10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3" fill="hold">
                            <p:stCondLst>
                              <p:cond delay="1000"/>
                            </p:stCondLst>
                            <p:childTnLst>
                              <p:par>
                                <p:cTn id="2054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0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0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058" dur="1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6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2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3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4" fill="hold">
                            <p:stCondLst>
                              <p:cond delay="2500"/>
                            </p:stCondLst>
                            <p:childTnLst>
                              <p:par>
                                <p:cTn id="206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67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8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1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2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3" fill="hold">
                      <p:stCondLst>
                        <p:cond delay="indefinite"/>
                      </p:stCondLst>
                      <p:childTnLst>
                        <p:par>
                          <p:cTn id="2074" fill="hold">
                            <p:stCondLst>
                              <p:cond delay="0"/>
                            </p:stCondLst>
                            <p:childTnLst>
                              <p:par>
                                <p:cTn id="2075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076" dur="80"/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77" dur="80"/>
                                        <p:tgtEl>
                                          <p:spTgt spid="4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78" dur="80"/>
                                        <p:tgtEl>
                                          <p:spTgt spid="4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079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0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081" dur="80"/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82" dur="80"/>
                                        <p:tgtEl>
                                          <p:spTgt spid="4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83" dur="80"/>
                                        <p:tgtEl>
                                          <p:spTgt spid="4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084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5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76" name=""/>
          <p:cNvSpPr/>
          <p:nvPr/>
        </p:nvSpPr>
        <p:spPr>
          <a:xfrm>
            <a:off x="685800" y="198108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عَلَى سُرُرٍ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مَوْضُونَةٍ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واقع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15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858000" y="3657600"/>
            <a:ext cx="143676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مَوْضُونَةٍ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4952880" y="3657600"/>
            <a:ext cx="15433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نسوج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3048120" y="3657600"/>
            <a:ext cx="16398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رتب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1219320" y="3657600"/>
            <a:ext cx="1523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زين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2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483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85" dur="indefinite" restart="never" nodeType="tmRoot">
          <p:childTnLst>
            <p:seq>
              <p:cTn id="2086" dur="indefinite" nodeType="mainSeq">
                <p:childTnLst>
                  <p:par>
                    <p:cTn id="2087" fill="hold">
                      <p:stCondLst>
                        <p:cond delay="0"/>
                      </p:stCondLst>
                      <p:childTnLst>
                        <p:par>
                          <p:cTn id="2088" fill="hold">
                            <p:stCondLst>
                              <p:cond delay="0"/>
                            </p:stCondLst>
                            <p:childTnLst>
                              <p:par>
                                <p:cTn id="208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91" dur="500"/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93" dur="3658" fill="hold"/>
                                        <p:tgtEl>
                                          <p:spTgt spid="4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4" fill="hold">
                      <p:stCondLst>
                        <p:cond delay="indefinite"/>
                      </p:stCondLst>
                      <p:childTnLst>
                        <p:par>
                          <p:cTn id="2095" fill="hold">
                            <p:stCondLst>
                              <p:cond delay="0"/>
                            </p:stCondLst>
                            <p:childTnLst>
                              <p:par>
                                <p:cTn id="209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98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9" fill="hold">
                            <p:stCondLst>
                              <p:cond delay="500"/>
                            </p:stCondLst>
                            <p:childTnLst>
                              <p:par>
                                <p:cTn id="210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2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3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4" fill="hold">
                            <p:stCondLst>
                              <p:cond delay="1000"/>
                            </p:stCondLst>
                            <p:childTnLst>
                              <p:par>
                                <p:cTn id="210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7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8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9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0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3" dur="500" fill="hold"/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4" dur="500" fill="hold"/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5" dur="500" fill="hold"/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6" dur="500"/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7" fill="hold">
                            <p:stCondLst>
                              <p:cond delay="1500"/>
                            </p:stCondLst>
                            <p:childTnLst>
                              <p:par>
                                <p:cTn id="211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0" dur="8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1" dur="8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2" dur="8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3" dur="8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6" fill="hold">
                      <p:stCondLst>
                        <p:cond delay="indefinite"/>
                      </p:stCondLst>
                      <p:childTnLst>
                        <p:par>
                          <p:cTn id="2127" fill="hold">
                            <p:stCondLst>
                              <p:cond delay="0"/>
                            </p:stCondLst>
                            <p:childTnLst>
                              <p:par>
                                <p:cTn id="212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685800" y="190512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أَفَتُمَارُونَهُ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عَلَى مَا يَرَى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ا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لنجم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12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485760" y="3505320"/>
            <a:ext cx="17017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أَفَتُمَارُونَهُ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666880" y="3505320"/>
            <a:ext cx="16495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أتجادلون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648320" y="3505320"/>
            <a:ext cx="16747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أتكذبون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62120" y="3505320"/>
            <a:ext cx="16160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أتصدقون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0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2" dur="4285" fill="hold"/>
                                        <p:tgtEl>
                                          <p:spTgt spid="1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1500"/>
                            </p:stCondLst>
                            <p:childTnLst>
                              <p:par>
                                <p:cTn id="135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4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85" name=""/>
          <p:cNvSpPr/>
          <p:nvPr/>
        </p:nvSpPr>
        <p:spPr>
          <a:xfrm>
            <a:off x="533520" y="152388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لا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يُصَدَّعُونَ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عَنْهَا وَلا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يُنْزِفُونَ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واقع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19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6759000" y="3200400"/>
            <a:ext cx="16268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يُصَدَّعُونَ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6858000" y="4114800"/>
            <a:ext cx="14032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يُنْزِفُونَ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62120" y="3200400"/>
            <a:ext cx="198108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صيبهم صدا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4876920" y="3200400"/>
            <a:ext cx="19047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تخلو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2895480" y="3200400"/>
            <a:ext cx="18226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فترقو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876920" y="4114800"/>
            <a:ext cx="185580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تذهب عقوله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2819520" y="4114800"/>
            <a:ext cx="19047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ُصيبهم أل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762120" y="4114800"/>
            <a:ext cx="19270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نتهو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5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496" name="" descr=""/>
          <p:cNvPicPr/>
          <p:nvPr/>
        </p:nvPicPr>
        <p:blipFill>
          <a:blip r:embed="rId3"/>
          <a:stretch/>
        </p:blipFill>
        <p:spPr>
          <a:xfrm>
            <a:off x="4191120" y="23623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34" dur="indefinite" restart="never" nodeType="tmRoot">
          <p:childTnLst>
            <p:seq>
              <p:cTn id="2135" dur="indefinite" nodeType="mainSeq">
                <p:childTnLst>
                  <p:par>
                    <p:cTn id="2136" fill="hold">
                      <p:stCondLst>
                        <p:cond delay="0"/>
                      </p:stCondLst>
                      <p:childTnLst>
                        <p:par>
                          <p:cTn id="2137" fill="hold">
                            <p:stCondLst>
                              <p:cond delay="0"/>
                            </p:stCondLst>
                            <p:childTnLst>
                              <p:par>
                                <p:cTn id="213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0" dur="1000" fill="hold"/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1" dur="1000" fill="hold"/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42" dur="1000"/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44" dur="5956" fill="hold"/>
                                        <p:tgtEl>
                                          <p:spTgt spid="4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5" fill="hold">
                      <p:stCondLst>
                        <p:cond delay="indefinite"/>
                      </p:stCondLst>
                      <p:childTnLst>
                        <p:par>
                          <p:cTn id="2146" fill="hold">
                            <p:stCondLst>
                              <p:cond delay="0"/>
                            </p:stCondLst>
                            <p:childTnLst>
                              <p:par>
                                <p:cTn id="21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49" dur="80"/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50" dur="80"/>
                                        <p:tgtEl>
                                          <p:spTgt spid="4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51" dur="80"/>
                                        <p:tgtEl>
                                          <p:spTgt spid="4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2" fill="hold">
                            <p:stCondLst>
                              <p:cond delay="560"/>
                            </p:stCondLst>
                            <p:childTnLst>
                              <p:par>
                                <p:cTn id="2153" nodeType="after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5" dur="8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6" dur="8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7" dur="8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8" dur="8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1" fill="hold">
                            <p:stCondLst>
                              <p:cond delay="1560"/>
                            </p:stCondLst>
                            <p:childTnLst>
                              <p:par>
                                <p:cTn id="2162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4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5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6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7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8" fill="hold">
                            <p:stCondLst>
                              <p:cond delay="2060"/>
                            </p:stCondLst>
                            <p:childTnLst>
                              <p:par>
                                <p:cTn id="216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1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2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3" fill="hold">
                      <p:stCondLst>
                        <p:cond delay="indefinite"/>
                      </p:stCondLst>
                      <p:childTnLst>
                        <p:par>
                          <p:cTn id="2174" fill="hold">
                            <p:stCondLst>
                              <p:cond delay="0"/>
                            </p:stCondLst>
                            <p:childTnLst>
                              <p:par>
                                <p:cTn id="2175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176" dur="80"/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77" dur="80"/>
                                        <p:tgtEl>
                                          <p:spTgt spid="4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78" dur="80"/>
                                        <p:tgtEl>
                                          <p:spTgt spid="4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179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0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181" dur="80"/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82" dur="80"/>
                                        <p:tgtEl>
                                          <p:spTgt spid="4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83" dur="80"/>
                                        <p:tgtEl>
                                          <p:spTgt spid="4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184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5" fill="hold">
                            <p:stCondLst>
                              <p:cond delay="320"/>
                            </p:stCondLst>
                            <p:childTnLst>
                              <p:par>
                                <p:cTn id="218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8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9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0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1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2" fill="hold">
                            <p:stCondLst>
                              <p:cond delay="820"/>
                            </p:stCondLst>
                            <p:childTnLst>
                              <p:par>
                                <p:cTn id="219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5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6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7" fill="hold">
                            <p:stCondLst>
                              <p:cond delay="1320"/>
                            </p:stCondLst>
                            <p:childTnLst>
                              <p:par>
                                <p:cTn id="219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0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1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2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3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4" fill="hold">
                            <p:stCondLst>
                              <p:cond delay="1820"/>
                            </p:stCondLst>
                            <p:childTnLst>
                              <p:par>
                                <p:cTn id="220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7" dur="10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8" dur="10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09" dur="10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0" fill="hold">
                      <p:stCondLst>
                        <p:cond delay="indefinite"/>
                      </p:stCondLst>
                      <p:childTnLst>
                        <p:par>
                          <p:cTn id="2211" fill="hold">
                            <p:stCondLst>
                              <p:cond delay="0"/>
                            </p:stCondLst>
                            <p:childTnLst>
                              <p:par>
                                <p:cTn id="2212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13" dur="1000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4" dur="1000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15" dur="10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7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18" dur="1000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9" dur="1000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20" dur="10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7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98" name=""/>
          <p:cNvSpPr/>
          <p:nvPr/>
        </p:nvSpPr>
        <p:spPr>
          <a:xfrm>
            <a:off x="685800" y="190512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فِي سِدْرٍ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مَخْضُودٍ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واقع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28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6853320" y="3276720"/>
            <a:ext cx="14576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مَخْضُودٍ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895480" y="3276720"/>
            <a:ext cx="185904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قطوع الشو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4952880" y="3276720"/>
            <a:ext cx="164304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كثير الور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914400" y="3276720"/>
            <a:ext cx="179712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شوكه صغي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4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505" name="" descr=""/>
          <p:cNvPicPr/>
          <p:nvPr/>
        </p:nvPicPr>
        <p:blipFill>
          <a:blip r:embed="rId3"/>
          <a:stretch/>
        </p:blipFill>
        <p:spPr>
          <a:xfrm>
            <a:off x="4419720" y="27432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22" dur="indefinite" restart="never" nodeType="tmRoot">
          <p:childTnLst>
            <p:seq>
              <p:cTn id="2223" dur="indefinite" nodeType="mainSeq">
                <p:childTnLst>
                  <p:par>
                    <p:cTn id="2224" fill="hold">
                      <p:stCondLst>
                        <p:cond delay="0"/>
                      </p:stCondLst>
                      <p:childTnLst>
                        <p:par>
                          <p:cTn id="2225" fill="hold">
                            <p:stCondLst>
                              <p:cond delay="0"/>
                            </p:stCondLst>
                            <p:childTnLst>
                              <p:par>
                                <p:cTn id="222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28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30" dur="3553" fill="hold"/>
                                        <p:tgtEl>
                                          <p:spTgt spid="5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1" fill="hold">
                      <p:stCondLst>
                        <p:cond delay="indefinite"/>
                      </p:stCondLst>
                      <p:childTnLst>
                        <p:par>
                          <p:cTn id="2232" fill="hold">
                            <p:stCondLst>
                              <p:cond delay="0"/>
                            </p:stCondLst>
                            <p:childTnLst>
                              <p:par>
                                <p:cTn id="223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35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6" fill="hold">
                            <p:stCondLst>
                              <p:cond delay="500"/>
                            </p:stCondLst>
                            <p:childTnLst>
                              <p:par>
                                <p:cTn id="2237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9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0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1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3" nodeType="with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5" dur="500" fill="hold"/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6" dur="500" fill="hold"/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7" dur="500" fill="hold"/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8" dur="500"/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9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2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3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4" fill="hold">
                            <p:stCondLst>
                              <p:cond delay="1500"/>
                            </p:stCondLst>
                            <p:childTnLst>
                              <p:par>
                                <p:cTn id="225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5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8" fill="hold">
                      <p:stCondLst>
                        <p:cond delay="indefinite"/>
                      </p:stCondLst>
                      <p:childTnLst>
                        <p:par>
                          <p:cTn id="2259" fill="hold">
                            <p:stCondLst>
                              <p:cond delay="0"/>
                            </p:stCondLst>
                            <p:childTnLst>
                              <p:par>
                                <p:cTn id="2260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261" dur="80"/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62" dur="80"/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63" dur="80"/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264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5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266" dur="80"/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67" dur="80"/>
                                        <p:tgtEl>
                                          <p:spTgt spid="5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68" dur="80"/>
                                        <p:tgtEl>
                                          <p:spTgt spid="5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269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0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271" dur="80"/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72" dur="80"/>
                                        <p:tgtEl>
                                          <p:spTgt spid="5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73" dur="80"/>
                                        <p:tgtEl>
                                          <p:spTgt spid="5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274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6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07" name=""/>
          <p:cNvSpPr/>
          <p:nvPr/>
        </p:nvSpPr>
        <p:spPr>
          <a:xfrm>
            <a:off x="533520" y="190512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وَطَلْحٍ مَنْضُودٍ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واقع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29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6934320" y="3352680"/>
            <a:ext cx="12398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وَطَلْحٍ 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6863400" y="4191120"/>
            <a:ext cx="13359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مَنْضُودٍ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2971800" y="3352680"/>
            <a:ext cx="17272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و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4952880" y="3352680"/>
            <a:ext cx="16732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بلح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1066680" y="3352680"/>
            <a:ext cx="16765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عن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1066680" y="4191120"/>
            <a:ext cx="1685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رت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4952880" y="4191120"/>
            <a:ext cx="16876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ستوي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2971800" y="4191120"/>
            <a:ext cx="17478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نو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7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518" name="" descr=""/>
          <p:cNvPicPr/>
          <p:nvPr/>
        </p:nvPicPr>
        <p:blipFill>
          <a:blip r:embed="rId3"/>
          <a:stretch/>
        </p:blipFill>
        <p:spPr>
          <a:xfrm>
            <a:off x="4038480" y="2057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75" dur="indefinite" restart="never" nodeType="tmRoot">
          <p:childTnLst>
            <p:seq>
              <p:cTn id="2276" dur="indefinite" nodeType="mainSeq">
                <p:childTnLst>
                  <p:par>
                    <p:cTn id="2277" fill="hold">
                      <p:stCondLst>
                        <p:cond delay="0"/>
                      </p:stCondLst>
                      <p:childTnLst>
                        <p:par>
                          <p:cTn id="2278" fill="hold">
                            <p:stCondLst>
                              <p:cond delay="0"/>
                            </p:stCondLst>
                            <p:childTnLst>
                              <p:par>
                                <p:cTn id="227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1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2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83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85" dur="4128" fill="hold"/>
                                        <p:tgtEl>
                                          <p:spTgt spid="5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6" fill="hold">
                      <p:stCondLst>
                        <p:cond delay="indefinite"/>
                      </p:stCondLst>
                      <p:childTnLst>
                        <p:par>
                          <p:cTn id="2287" fill="hold">
                            <p:stCondLst>
                              <p:cond delay="0"/>
                            </p:stCondLst>
                            <p:childTnLst>
                              <p:par>
                                <p:cTn id="228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2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2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292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3" fill="hold">
                            <p:stCondLst>
                              <p:cond delay="1000"/>
                            </p:stCondLst>
                            <p:childTnLst>
                              <p:par>
                                <p:cTn id="22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6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7" fill="hold">
                            <p:stCondLst>
                              <p:cond delay="1500"/>
                            </p:stCondLst>
                            <p:childTnLst>
                              <p:par>
                                <p:cTn id="229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0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1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5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6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7" fill="hold">
                      <p:stCondLst>
                        <p:cond delay="indefinite"/>
                      </p:stCondLst>
                      <p:childTnLst>
                        <p:par>
                          <p:cTn id="2308" fill="hold">
                            <p:stCondLst>
                              <p:cond delay="0"/>
                            </p:stCondLst>
                            <p:childTnLst>
                              <p:par>
                                <p:cTn id="230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3" fill="hold">
                            <p:stCondLst>
                              <p:cond delay="0"/>
                            </p:stCondLst>
                            <p:childTnLst>
                              <p:par>
                                <p:cTn id="231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16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7" fill="hold">
                            <p:stCondLst>
                              <p:cond delay="500"/>
                            </p:stCondLst>
                            <p:childTnLst>
                              <p:par>
                                <p:cTn id="231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0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1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2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5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6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7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8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9" fill="hold">
                            <p:stCondLst>
                              <p:cond delay="1500"/>
                            </p:stCondLst>
                            <p:childTnLst>
                              <p:par>
                                <p:cTn id="233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32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3" fill="hold">
                      <p:stCondLst>
                        <p:cond delay="indefinite"/>
                      </p:stCondLst>
                      <p:childTnLst>
                        <p:par>
                          <p:cTn id="2334" fill="hold">
                            <p:stCondLst>
                              <p:cond delay="0"/>
                            </p:stCondLst>
                            <p:childTnLst>
                              <p:par>
                                <p:cTn id="233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9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20" name=""/>
          <p:cNvSpPr/>
          <p:nvPr/>
        </p:nvSpPr>
        <p:spPr>
          <a:xfrm>
            <a:off x="609480" y="160020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عُرُباً أَتْرَاباً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واقع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37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7010280" y="3352680"/>
            <a:ext cx="12240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عُرُباً 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7010280" y="4267080"/>
            <a:ext cx="11937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أَتْرَاباً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2510640" y="4267080"/>
            <a:ext cx="25200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ستويات بالس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2819520" y="3352680"/>
            <a:ext cx="19047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تغنجا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5105520" y="3352680"/>
            <a:ext cx="167616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أهل البادي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838080" y="3352680"/>
            <a:ext cx="16876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جميلا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5105520" y="4267080"/>
            <a:ext cx="16761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لا يكبر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838080" y="4267080"/>
            <a:ext cx="16765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خجولا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0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531" name="" descr=""/>
          <p:cNvPicPr/>
          <p:nvPr/>
        </p:nvPicPr>
        <p:blipFill>
          <a:blip r:embed="rId3"/>
          <a:stretch/>
        </p:blipFill>
        <p:spPr>
          <a:xfrm>
            <a:off x="4191120" y="25909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39" dur="indefinite" restart="never" nodeType="tmRoot">
          <p:childTnLst>
            <p:seq>
              <p:cTn id="2340" dur="indefinite" nodeType="mainSeq">
                <p:childTnLst>
                  <p:par>
                    <p:cTn id="2341" fill="hold">
                      <p:stCondLst>
                        <p:cond delay="0"/>
                      </p:stCondLst>
                      <p:childTnLst>
                        <p:par>
                          <p:cTn id="2342" fill="hold">
                            <p:stCondLst>
                              <p:cond delay="0"/>
                            </p:stCondLst>
                            <p:childTnLst>
                              <p:par>
                                <p:cTn id="234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45" dur="500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47" dur="3031" fill="hold"/>
                                        <p:tgtEl>
                                          <p:spTgt spid="5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8" fill="hold">
                      <p:stCondLst>
                        <p:cond delay="indefinite"/>
                      </p:stCondLst>
                      <p:childTnLst>
                        <p:par>
                          <p:cTn id="2349" fill="hold">
                            <p:stCondLst>
                              <p:cond delay="0"/>
                            </p:stCondLst>
                            <p:childTnLst>
                              <p:par>
                                <p:cTn id="235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52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3" fill="hold">
                            <p:stCondLst>
                              <p:cond delay="500"/>
                            </p:stCondLst>
                            <p:childTnLst>
                              <p:par>
                                <p:cTn id="235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6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7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58" dur="1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1" dur="1000" fill="hold"/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2" dur="1000" fill="hold"/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63" dur="1000"/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4" fill="hold">
                            <p:stCondLst>
                              <p:cond delay="1500"/>
                            </p:stCondLst>
                            <p:childTnLst>
                              <p:par>
                                <p:cTn id="236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67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8" fill="hold">
                            <p:stCondLst>
                              <p:cond delay="2000"/>
                            </p:stCondLst>
                            <p:childTnLst>
                              <p:par>
                                <p:cTn id="236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1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2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3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4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5" fill="hold">
                      <p:stCondLst>
                        <p:cond delay="indefinite"/>
                      </p:stCondLst>
                      <p:childTnLst>
                        <p:par>
                          <p:cTn id="2376" fill="hold">
                            <p:stCondLst>
                              <p:cond delay="0"/>
                            </p:stCondLst>
                            <p:childTnLst>
                              <p:par>
                                <p:cTn id="23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3" fill="hold">
                            <p:stCondLst>
                              <p:cond delay="0"/>
                            </p:stCondLst>
                            <p:childTnLst>
                              <p:par>
                                <p:cTn id="2384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3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3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388" dur="10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9" fill="hold">
                            <p:stCondLst>
                              <p:cond delay="1000"/>
                            </p:stCondLst>
                            <p:childTnLst>
                              <p:par>
                                <p:cTn id="239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92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3" fill="hold">
                            <p:stCondLst>
                              <p:cond delay="1500"/>
                            </p:stCondLst>
                            <p:childTnLst>
                              <p:par>
                                <p:cTn id="239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6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7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8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9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0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1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3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4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5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6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7" fill="hold">
                      <p:stCondLst>
                        <p:cond delay="indefinite"/>
                      </p:stCondLst>
                      <p:childTnLst>
                        <p:par>
                          <p:cTn id="2408" fill="hold">
                            <p:stCondLst>
                              <p:cond delay="0"/>
                            </p:stCondLst>
                            <p:childTnLst>
                              <p:par>
                                <p:cTn id="2409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410" dur="80"/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11" dur="80"/>
                                        <p:tgtEl>
                                          <p:spTgt spid="5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12" dur="80"/>
                                        <p:tgtEl>
                                          <p:spTgt spid="5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413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4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415" dur="80"/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16" dur="80"/>
                                        <p:tgtEl>
                                          <p:spTgt spid="5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17" dur="80"/>
                                        <p:tgtEl>
                                          <p:spTgt spid="5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418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2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33" name=""/>
          <p:cNvSpPr/>
          <p:nvPr/>
        </p:nvSpPr>
        <p:spPr>
          <a:xfrm>
            <a:off x="304920" y="198108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ظِلٍّ مِنْ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يَحْمُومٍ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واقع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43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6858000" y="3429000"/>
            <a:ext cx="13860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يَحْمُومٍ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2743200" y="3429000"/>
            <a:ext cx="18288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دخان اسو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4876920" y="3429000"/>
            <a:ext cx="17650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اء مغلي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556920" y="3429000"/>
            <a:ext cx="21376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شديد الحرار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9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540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19" dur="indefinite" restart="never" nodeType="tmRoot">
          <p:childTnLst>
            <p:seq>
              <p:cTn id="2420" dur="indefinite" nodeType="mainSeq">
                <p:childTnLst>
                  <p:par>
                    <p:cTn id="2421" fill="hold">
                      <p:stCondLst>
                        <p:cond delay="0"/>
                      </p:stCondLst>
                      <p:childTnLst>
                        <p:par>
                          <p:cTn id="2422" fill="hold">
                            <p:stCondLst>
                              <p:cond delay="0"/>
                            </p:stCondLst>
                            <p:childTnLst>
                              <p:par>
                                <p:cTn id="242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4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4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427" dur="1000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29" dur="4337" fill="hold"/>
                                        <p:tgtEl>
                                          <p:spTgt spid="5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0" fill="hold">
                      <p:stCondLst>
                        <p:cond delay="indefinite"/>
                      </p:stCondLst>
                      <p:childTnLst>
                        <p:par>
                          <p:cTn id="2431" fill="hold">
                            <p:stCondLst>
                              <p:cond delay="0"/>
                            </p:stCondLst>
                            <p:childTnLst>
                              <p:par>
                                <p:cTn id="243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34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5" fill="hold">
                            <p:stCondLst>
                              <p:cond delay="500"/>
                            </p:stCondLst>
                            <p:childTnLst>
                              <p:par>
                                <p:cTn id="243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8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9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0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1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2" fill="hold">
                            <p:stCondLst>
                              <p:cond delay="1000"/>
                            </p:stCondLst>
                            <p:childTnLst>
                              <p:par>
                                <p:cTn id="244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45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6" fill="hold">
                            <p:stCondLst>
                              <p:cond delay="1500"/>
                            </p:stCondLst>
                            <p:childTnLst>
                              <p:par>
                                <p:cTn id="244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49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45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53" dur="500"/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4" fill="hold">
                      <p:stCondLst>
                        <p:cond delay="indefinite"/>
                      </p:stCondLst>
                      <p:childTnLst>
                        <p:par>
                          <p:cTn id="2455" fill="hold">
                            <p:stCondLst>
                              <p:cond delay="0"/>
                            </p:stCondLst>
                            <p:childTnLst>
                              <p:par>
                                <p:cTn id="2456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57" dur="1000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8" dur="1000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459" dur="10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1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62" dur="1000"/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3" dur="1000"/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464" dur="1000"/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6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67" dur="1000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8" dur="1000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469" dur="1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1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42" name=""/>
          <p:cNvSpPr/>
          <p:nvPr/>
        </p:nvSpPr>
        <p:spPr>
          <a:xfrm>
            <a:off x="685800" y="175248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وَكَانُوا يُصِرُّونَ عَلَى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الْحِنْثِ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الْعَظِيمِ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واقع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46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6934320" y="3200400"/>
            <a:ext cx="12952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الْحِنْثِ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4952880" y="3200400"/>
            <a:ext cx="163836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نقض العه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2971800" y="3200400"/>
            <a:ext cx="16714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ذن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990720" y="3200400"/>
            <a:ext cx="16603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كف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8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549" name="" descr=""/>
          <p:cNvPicPr/>
          <p:nvPr/>
        </p:nvPicPr>
        <p:blipFill>
          <a:blip r:embed="rId3"/>
          <a:stretch/>
        </p:blipFill>
        <p:spPr>
          <a:xfrm>
            <a:off x="4038480" y="23623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71" dur="indefinite" restart="never" nodeType="tmRoot">
          <p:childTnLst>
            <p:seq>
              <p:cTn id="2472" dur="indefinite" nodeType="mainSeq">
                <p:childTnLst>
                  <p:par>
                    <p:cTn id="2473" fill="hold">
                      <p:stCondLst>
                        <p:cond delay="0"/>
                      </p:stCondLst>
                      <p:childTnLst>
                        <p:par>
                          <p:cTn id="2474" fill="hold">
                            <p:stCondLst>
                              <p:cond delay="0"/>
                            </p:stCondLst>
                            <p:childTnLst>
                              <p:par>
                                <p:cTn id="247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7" dur="1000" fill="hold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8" dur="1000" fill="hold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79" dur="1000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81" dur="6583" fill="hold"/>
                                        <p:tgtEl>
                                          <p:spTgt spid="5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2" fill="hold">
                      <p:stCondLst>
                        <p:cond delay="indefinite"/>
                      </p:stCondLst>
                      <p:childTnLst>
                        <p:par>
                          <p:cTn id="2483" fill="hold">
                            <p:stCondLst>
                              <p:cond delay="0"/>
                            </p:stCondLst>
                            <p:childTnLst>
                              <p:par>
                                <p:cTn id="248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6" dur="8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7" dur="8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8" dur="8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9" dur="8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2" fill="hold">
                            <p:stCondLst>
                              <p:cond delay="1000"/>
                            </p:stCondLst>
                            <p:childTnLst>
                              <p:par>
                                <p:cTn id="249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95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6" fill="hold">
                            <p:stCondLst>
                              <p:cond delay="1500"/>
                            </p:stCondLst>
                            <p:childTnLst>
                              <p:par>
                                <p:cTn id="249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99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0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3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4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0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8" dur="500" fill="hold"/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9" dur="500" fill="hold"/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0" fill="hold">
                      <p:stCondLst>
                        <p:cond delay="indefinite"/>
                      </p:stCondLst>
                      <p:childTnLst>
                        <p:par>
                          <p:cTn id="2511" fill="hold">
                            <p:stCondLst>
                              <p:cond delay="0"/>
                            </p:stCondLst>
                            <p:childTnLst>
                              <p:par>
                                <p:cTn id="2512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13" dur="1000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4" dur="1000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515" dur="10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7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18" dur="1000"/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9" dur="1000"/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520" dur="1000"/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2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23" dur="1000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4" dur="1000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525" dur="10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0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51" name=""/>
          <p:cNvSpPr/>
          <p:nvPr/>
        </p:nvSpPr>
        <p:spPr>
          <a:xfrm>
            <a:off x="685800" y="220968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لَآكِلُونَ مِنْ شَجَرٍ مِنْ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زَقُّومٍ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واقع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52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6629400" y="3505320"/>
            <a:ext cx="16192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زَقُّومٍ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1600200" y="5029200"/>
            <a:ext cx="3944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ر وكريه الرائح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1600200" y="4267080"/>
            <a:ext cx="39164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ا يحرق البطو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1600200" y="3505320"/>
            <a:ext cx="39243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حجارة وحمي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558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27" dur="indefinite" restart="never" nodeType="tmRoot">
          <p:childTnLst>
            <p:seq>
              <p:cTn id="2528" dur="indefinite" nodeType="mainSeq">
                <p:childTnLst>
                  <p:par>
                    <p:cTn id="2529" fill="hold">
                      <p:stCondLst>
                        <p:cond delay="0"/>
                      </p:stCondLst>
                      <p:childTnLst>
                        <p:par>
                          <p:cTn id="2530" fill="hold">
                            <p:stCondLst>
                              <p:cond delay="0"/>
                            </p:stCondLst>
                            <p:childTnLst>
                              <p:par>
                                <p:cTn id="253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33" dur="500"/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35" dur="6949" fill="hold"/>
                                        <p:tgtEl>
                                          <p:spTgt spid="5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6" fill="hold">
                      <p:stCondLst>
                        <p:cond delay="indefinite"/>
                      </p:stCondLst>
                      <p:childTnLst>
                        <p:par>
                          <p:cTn id="2537" fill="hold">
                            <p:stCondLst>
                              <p:cond delay="0"/>
                            </p:stCondLst>
                            <p:childTnLst>
                              <p:par>
                                <p:cTn id="253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4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1" fill="hold">
                            <p:stCondLst>
                              <p:cond delay="500"/>
                            </p:stCondLst>
                            <p:childTnLst>
                              <p:par>
                                <p:cTn id="254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44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5" fill="hold">
                            <p:stCondLst>
                              <p:cond delay="1000"/>
                            </p:stCondLst>
                            <p:childTnLst>
                              <p:par>
                                <p:cTn id="254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8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9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0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1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2" fill="hold">
                            <p:stCondLst>
                              <p:cond delay="1500"/>
                            </p:stCondLst>
                            <p:childTnLst>
                              <p:par>
                                <p:cTn id="255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5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5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557" dur="1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8" fill="hold">
                      <p:stCondLst>
                        <p:cond delay="indefinite"/>
                      </p:stCondLst>
                      <p:childTnLst>
                        <p:par>
                          <p:cTn id="2559" fill="hold">
                            <p:stCondLst>
                              <p:cond delay="0"/>
                            </p:stCondLst>
                            <p:childTnLst>
                              <p:par>
                                <p:cTn id="2560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561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3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564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9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60" name=""/>
          <p:cNvSpPr/>
          <p:nvPr/>
        </p:nvSpPr>
        <p:spPr>
          <a:xfrm>
            <a:off x="457200" y="167652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فَشَارِبُونَ شُرْبَ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الْهِيمِ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واقع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55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6477120" y="2944800"/>
            <a:ext cx="16207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الْهِيمِ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1828800" y="4800600"/>
            <a:ext cx="403848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أبل المصابة بمرض العُطاش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1828800" y="2944800"/>
            <a:ext cx="40021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تائهون في الصحرا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1828800" y="3859200"/>
            <a:ext cx="39625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حيوانات الشارد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6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567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66" dur="indefinite" restart="never" nodeType="tmRoot">
          <p:childTnLst>
            <p:seq>
              <p:cTn id="2567" dur="indefinite" nodeType="mainSeq">
                <p:childTnLst>
                  <p:par>
                    <p:cTn id="2568" fill="hold">
                      <p:stCondLst>
                        <p:cond delay="0"/>
                      </p:stCondLst>
                      <p:childTnLst>
                        <p:par>
                          <p:cTn id="2569" fill="hold">
                            <p:stCondLst>
                              <p:cond delay="0"/>
                            </p:stCondLst>
                            <p:childTnLst>
                              <p:par>
                                <p:cTn id="257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72" dur="500"/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74" dur="3814" fill="hold"/>
                                        <p:tgtEl>
                                          <p:spTgt spid="5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5" fill="hold">
                      <p:stCondLst>
                        <p:cond delay="indefinite"/>
                      </p:stCondLst>
                      <p:childTnLst>
                        <p:par>
                          <p:cTn id="2576" fill="hold">
                            <p:stCondLst>
                              <p:cond delay="0"/>
                            </p:stCondLst>
                            <p:childTnLst>
                              <p:par>
                                <p:cTn id="257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9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0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1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2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3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4" fill="hold">
                            <p:stCondLst>
                              <p:cond delay="500"/>
                            </p:stCondLst>
                            <p:childTnLst>
                              <p:par>
                                <p:cTn id="2585" nodeType="afterEffect" fill="hold" presetClass="entr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7" dur="1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8" dur="1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89" dur="10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0" fill="hold">
                            <p:stCondLst>
                              <p:cond delay="1500"/>
                            </p:stCondLst>
                            <p:childTnLst>
                              <p:par>
                                <p:cTn id="259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93" dur="80"/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94" dur="80"/>
                                        <p:tgtEl>
                                          <p:spTgt spid="5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95" dur="80"/>
                                        <p:tgtEl>
                                          <p:spTgt spid="5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6" fill="hold">
                            <p:stCondLst>
                              <p:cond delay="2180"/>
                            </p:stCondLst>
                            <p:childTnLst>
                              <p:par>
                                <p:cTn id="2597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5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6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601" dur="10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2" fill="hold">
                      <p:stCondLst>
                        <p:cond delay="indefinite"/>
                      </p:stCondLst>
                      <p:childTnLst>
                        <p:par>
                          <p:cTn id="2603" fill="hold">
                            <p:stCondLst>
                              <p:cond delay="0"/>
                            </p:stCondLst>
                            <p:childTnLst>
                              <p:par>
                                <p:cTn id="2604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605" dur="80"/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06" dur="80"/>
                                        <p:tgtEl>
                                          <p:spTgt spid="5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07" dur="80"/>
                                        <p:tgtEl>
                                          <p:spTgt spid="5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608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09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610" dur="80"/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11" dur="80"/>
                                        <p:tgtEl>
                                          <p:spTgt spid="5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12" dur="80"/>
                                        <p:tgtEl>
                                          <p:spTgt spid="5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613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8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69" name=""/>
          <p:cNvSpPr/>
          <p:nvPr/>
        </p:nvSpPr>
        <p:spPr>
          <a:xfrm>
            <a:off x="533520" y="1905120"/>
            <a:ext cx="784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لَوْ نَشَاءُ لَجَعَلْنَاهُ حُطَاماً فَظَلْتُمْ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تَفَكَّهُونَ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                  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واقع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65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6553080" y="3505320"/>
            <a:ext cx="1573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تَفَكَّهُونَ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4648320" y="3505320"/>
            <a:ext cx="15825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تتعجبو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2666880" y="3505320"/>
            <a:ext cx="17100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تندمو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838080" y="3505320"/>
            <a:ext cx="15638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تعرفو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5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576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14" dur="indefinite" restart="never" nodeType="tmRoot">
          <p:childTnLst>
            <p:seq>
              <p:cTn id="2615" dur="indefinite" nodeType="mainSeq">
                <p:childTnLst>
                  <p:par>
                    <p:cTn id="2616" fill="hold">
                      <p:stCondLst>
                        <p:cond delay="0"/>
                      </p:stCondLst>
                      <p:childTnLst>
                        <p:par>
                          <p:cTn id="2617" fill="hold">
                            <p:stCondLst>
                              <p:cond delay="0"/>
                            </p:stCondLst>
                            <p:childTnLst>
                              <p:par>
                                <p:cTn id="261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20" dur="500"/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22" dur="9666" fill="hold"/>
                                        <p:tgtEl>
                                          <p:spTgt spid="5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3" fill="hold">
                      <p:stCondLst>
                        <p:cond delay="indefinite"/>
                      </p:stCondLst>
                      <p:childTnLst>
                        <p:par>
                          <p:cTn id="2624" fill="hold">
                            <p:stCondLst>
                              <p:cond delay="0"/>
                            </p:stCondLst>
                            <p:childTnLst>
                              <p:par>
                                <p:cTn id="262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27" dur="80"/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28" dur="80"/>
                                        <p:tgtEl>
                                          <p:spTgt spid="5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29" dur="80"/>
                                        <p:tgtEl>
                                          <p:spTgt spid="5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0" fill="hold">
                            <p:stCondLst>
                              <p:cond delay="560"/>
                            </p:stCondLst>
                            <p:childTnLst>
                              <p:par>
                                <p:cTn id="2631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6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6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635" dur="10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6" fill="hold">
                            <p:stCondLst>
                              <p:cond delay="1560"/>
                            </p:stCondLst>
                            <p:childTnLst>
                              <p:par>
                                <p:cTn id="2637" nodeType="after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9" dur="8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0" dur="8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1" dur="8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2" dur="8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5" fill="hold">
                            <p:stCondLst>
                              <p:cond delay="2560"/>
                            </p:stCondLst>
                            <p:childTnLst>
                              <p:par>
                                <p:cTn id="264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4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9" fill="hold">
                            <p:stCondLst>
                              <p:cond delay="3060"/>
                            </p:stCondLst>
                            <p:childTnLst>
                              <p:par>
                                <p:cTn id="265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52" dur="500"/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3" fill="hold">
                      <p:stCondLst>
                        <p:cond delay="indefinite"/>
                      </p:stCondLst>
                      <p:childTnLst>
                        <p:par>
                          <p:cTn id="2654" fill="hold">
                            <p:stCondLst>
                              <p:cond delay="0"/>
                            </p:stCondLst>
                            <p:childTnLst>
                              <p:par>
                                <p:cTn id="2655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656" dur="80"/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57" dur="80"/>
                                        <p:tgtEl>
                                          <p:spTgt spid="5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58" dur="80"/>
                                        <p:tgtEl>
                                          <p:spTgt spid="5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659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60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661" dur="80"/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62" dur="80"/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63" dur="80"/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664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65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666" dur="80"/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67" dur="80"/>
                                        <p:tgtEl>
                                          <p:spTgt spid="5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68" dur="80"/>
                                        <p:tgtEl>
                                          <p:spTgt spid="5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669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7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78" name=""/>
          <p:cNvSpPr/>
          <p:nvPr/>
        </p:nvSpPr>
        <p:spPr>
          <a:xfrm>
            <a:off x="914400" y="1905120"/>
            <a:ext cx="7238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إِنَّا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ea typeface="Arial"/>
              </a:rPr>
              <a:t> لَمُغْرَمُونَ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Wingdings 2"/>
                <a:ea typeface="Wingdings 2"/>
              </a:rPr>
              <a:t>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بَلْ نَحْنُ مَحْرُومُونَ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Traditional Arabic"/>
              </a:rPr>
              <a:t> 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واقع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66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و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67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6633360" y="3581280"/>
            <a:ext cx="16938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لَمُغْرَمُونَ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4876920" y="3581280"/>
            <a:ext cx="16207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لخاسرو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2971800" y="3581280"/>
            <a:ext cx="16113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لمحبو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914400" y="3581280"/>
            <a:ext cx="17431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لملزمو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4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585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70" dur="indefinite" restart="never" nodeType="tmRoot">
          <p:childTnLst>
            <p:seq>
              <p:cTn id="2671" dur="indefinite" nodeType="mainSeq">
                <p:childTnLst>
                  <p:par>
                    <p:cTn id="2672" fill="hold">
                      <p:stCondLst>
                        <p:cond delay="0"/>
                      </p:stCondLst>
                      <p:childTnLst>
                        <p:par>
                          <p:cTn id="2673" fill="hold">
                            <p:stCondLst>
                              <p:cond delay="0"/>
                            </p:stCondLst>
                            <p:childTnLst>
                              <p:par>
                                <p:cTn id="267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6" dur="1000" fill="hold"/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7" dur="1000" fill="hold"/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78" dur="1000"/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80" dur="7628" fill="hold"/>
                                        <p:tgtEl>
                                          <p:spTgt spid="5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1" fill="hold">
                      <p:stCondLst>
                        <p:cond delay="indefinite"/>
                      </p:stCondLst>
                      <p:childTnLst>
                        <p:par>
                          <p:cTn id="2682" fill="hold">
                            <p:stCondLst>
                              <p:cond delay="0"/>
                            </p:stCondLst>
                            <p:childTnLst>
                              <p:par>
                                <p:cTn id="268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85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6" fill="hold">
                            <p:stCondLst>
                              <p:cond delay="500"/>
                            </p:stCondLst>
                            <p:childTnLst>
                              <p:par>
                                <p:cTn id="268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89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0" fill="hold">
                            <p:stCondLst>
                              <p:cond delay="1000"/>
                            </p:stCondLst>
                            <p:childTnLst>
                              <p:par>
                                <p:cTn id="269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3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4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7" dur="500" fill="hold"/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8" dur="500" fill="hold"/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9" fill="hold">
                            <p:stCondLst>
                              <p:cond delay="1500"/>
                            </p:stCondLst>
                            <p:childTnLst>
                              <p:par>
                                <p:cTn id="270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02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05" dur="500"/>
                                        <p:tgtEl>
                                          <p:spTgt spid="5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6" fill="hold">
                      <p:stCondLst>
                        <p:cond delay="indefinite"/>
                      </p:stCondLst>
                      <p:childTnLst>
                        <p:par>
                          <p:cTn id="2707" fill="hold">
                            <p:stCondLst>
                              <p:cond delay="0"/>
                            </p:stCondLst>
                            <p:childTnLst>
                              <p:par>
                                <p:cTn id="2708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709" dur="80"/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10" dur="80"/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11" dur="80"/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712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3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714" dur="80"/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15" dur="80"/>
                                        <p:tgtEl>
                                          <p:spTgt spid="5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16" dur="80"/>
                                        <p:tgtEl>
                                          <p:spTgt spid="5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717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8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719" dur="80"/>
                                        <p:tgtEl>
                                          <p:spTgt spid="5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20" dur="80"/>
                                        <p:tgtEl>
                                          <p:spTgt spid="5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21" dur="80"/>
                                        <p:tgtEl>
                                          <p:spTgt spid="5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722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3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724" dur="80"/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25" dur="80"/>
                                        <p:tgtEl>
                                          <p:spTgt spid="5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26" dur="80"/>
                                        <p:tgtEl>
                                          <p:spTgt spid="5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727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1143000" y="1523880"/>
            <a:ext cx="6858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وَلَقَدْ رَآَهُ نَزْلَةً أُخْرَىِ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Wingdings 2"/>
                <a:ea typeface="Wingdings 2"/>
              </a:rPr>
              <a:t>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عنْدَ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سِدْرَةِ الْمُنْتَهَى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ا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لنجم: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13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و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14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987160" y="3048120"/>
            <a:ext cx="24040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سِدْرَةِ الْمُنْتَهَى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52480" y="3048120"/>
            <a:ext cx="410544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شجرة فوق السماء السابع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752480" y="3886200"/>
            <a:ext cx="41306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شجرة في الجن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752480" y="4724280"/>
            <a:ext cx="41468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مقام الأخير في الجن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4419720" y="10666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3" dur="8307" fill="hold"/>
                                        <p:tgtEl>
                                          <p:spTgt spid="1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8" dur="8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9" dur="8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0" dur="8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880"/>
                            </p:stCondLst>
                            <p:childTnLst>
                              <p:par>
                                <p:cTn id="17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380"/>
                            </p:stCondLst>
                            <p:childTnLst>
                              <p:par>
                                <p:cTn id="17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1880"/>
                            </p:stCondLst>
                            <p:childTnLst>
                              <p:par>
                                <p:cTn id="18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6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87" name=""/>
          <p:cNvSpPr/>
          <p:nvPr/>
        </p:nvSpPr>
        <p:spPr>
          <a:xfrm>
            <a:off x="685800" y="1828800"/>
            <a:ext cx="7620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أَأَنْتُمْ أَنْزَلْتُمُوهُ مِنَ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الْمُزْنِ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أَمْ نَحْنُ الْمُنْزِلُونَ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           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واقع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69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6705720" y="3886200"/>
            <a:ext cx="14176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الْمُزْنِ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4800600" y="3886200"/>
            <a:ext cx="16765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سما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2895480" y="3886200"/>
            <a:ext cx="16765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سحا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990720" y="3886200"/>
            <a:ext cx="1681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أعل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3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594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28" dur="indefinite" restart="never" nodeType="tmRoot">
          <p:childTnLst>
            <p:seq>
              <p:cTn id="2729" dur="indefinite" nodeType="mainSeq">
                <p:childTnLst>
                  <p:par>
                    <p:cTn id="2730" fill="hold">
                      <p:stCondLst>
                        <p:cond delay="0"/>
                      </p:stCondLst>
                      <p:childTnLst>
                        <p:par>
                          <p:cTn id="2731" fill="hold">
                            <p:stCondLst>
                              <p:cond delay="0"/>
                            </p:stCondLst>
                            <p:childTnLst>
                              <p:par>
                                <p:cTn id="273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4" dur="500" fill="hold"/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5" dur="500" fill="hold"/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37" dur="9875" fill="hold"/>
                                        <p:tgtEl>
                                          <p:spTgt spid="5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8" fill="hold">
                      <p:stCondLst>
                        <p:cond delay="indefinite"/>
                      </p:stCondLst>
                      <p:childTnLst>
                        <p:par>
                          <p:cTn id="2739" fill="hold">
                            <p:stCondLst>
                              <p:cond delay="0"/>
                            </p:stCondLst>
                            <p:childTnLst>
                              <p:par>
                                <p:cTn id="274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4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3" fill="hold">
                            <p:stCondLst>
                              <p:cond delay="500"/>
                            </p:stCondLst>
                            <p:childTnLst>
                              <p:par>
                                <p:cTn id="2744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6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7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8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9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0" fill="hold">
                            <p:stCondLst>
                              <p:cond delay="1000"/>
                            </p:stCondLst>
                            <p:childTnLst>
                              <p:par>
                                <p:cTn id="275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53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4" fill="hold">
                            <p:stCondLst>
                              <p:cond delay="1500"/>
                            </p:stCondLst>
                            <p:childTnLst>
                              <p:par>
                                <p:cTn id="275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7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8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9" fill="hold">
                            <p:stCondLst>
                              <p:cond delay="2000"/>
                            </p:stCondLst>
                            <p:childTnLst>
                              <p:par>
                                <p:cTn id="276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2" dur="500" fill="hold"/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3" dur="500" fill="hold"/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4" fill="hold">
                      <p:stCondLst>
                        <p:cond delay="indefinite"/>
                      </p:stCondLst>
                      <p:childTnLst>
                        <p:par>
                          <p:cTn id="2765" fill="hold">
                            <p:stCondLst>
                              <p:cond delay="0"/>
                            </p:stCondLst>
                            <p:childTnLst>
                              <p:par>
                                <p:cTn id="2766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767" dur="80"/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68" dur="80"/>
                                        <p:tgtEl>
                                          <p:spTgt spid="5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69" dur="80"/>
                                        <p:tgtEl>
                                          <p:spTgt spid="5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770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1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772" dur="80"/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73" dur="80"/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74" dur="80"/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775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6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777" dur="80"/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78" dur="80"/>
                                        <p:tgtEl>
                                          <p:spTgt spid="5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79" dur="80"/>
                                        <p:tgtEl>
                                          <p:spTgt spid="5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780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5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96" name=""/>
          <p:cNvSpPr/>
          <p:nvPr/>
        </p:nvSpPr>
        <p:spPr>
          <a:xfrm>
            <a:off x="762120" y="1828800"/>
            <a:ext cx="761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أَفَرَأَيْتُمُ النَّارَ الَّتِي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تُورُونَ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واقع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71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6950520" y="3352680"/>
            <a:ext cx="12657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تُورُونَ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5105520" y="3352680"/>
            <a:ext cx="16030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تدخلو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3200400" y="3352680"/>
            <a:ext cx="15588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تقدحو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1219320" y="3352680"/>
            <a:ext cx="16221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ترو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2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603" name="" descr=""/>
          <p:cNvPicPr/>
          <p:nvPr/>
        </p:nvPicPr>
        <p:blipFill>
          <a:blip r:embed="rId3"/>
          <a:stretch/>
        </p:blipFill>
        <p:spPr>
          <a:xfrm>
            <a:off x="4267080" y="2743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81" dur="indefinite" restart="never" nodeType="tmRoot">
          <p:childTnLst>
            <p:seq>
              <p:cTn id="2782" dur="indefinite" nodeType="mainSeq">
                <p:childTnLst>
                  <p:par>
                    <p:cTn id="2783" fill="hold">
                      <p:stCondLst>
                        <p:cond delay="0"/>
                      </p:stCondLst>
                      <p:childTnLst>
                        <p:par>
                          <p:cTn id="2784" fill="hold">
                            <p:stCondLst>
                              <p:cond delay="0"/>
                            </p:stCondLst>
                            <p:childTnLst>
                              <p:par>
                                <p:cTn id="2785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7" dur="500" fill="hold"/>
                                        <p:tgtEl>
                                          <p:spTgt spid="5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8" dur="500" fill="hold"/>
                                        <p:tgtEl>
                                          <p:spTgt spid="5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9" dur="500" fill="hold"/>
                                        <p:tgtEl>
                                          <p:spTgt spid="5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0" dur="500" fill="hold"/>
                                        <p:tgtEl>
                                          <p:spTgt spid="5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1" dur="500"/>
                                        <p:tgtEl>
                                          <p:spTgt spid="5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93" dur="5956" fill="hold"/>
                                        <p:tgtEl>
                                          <p:spTgt spid="6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4" fill="hold">
                      <p:stCondLst>
                        <p:cond delay="indefinite"/>
                      </p:stCondLst>
                      <p:childTnLst>
                        <p:par>
                          <p:cTn id="2795" fill="hold">
                            <p:stCondLst>
                              <p:cond delay="0"/>
                            </p:stCondLst>
                            <p:childTnLst>
                              <p:par>
                                <p:cTn id="27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8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9" fill="hold">
                            <p:stCondLst>
                              <p:cond delay="500"/>
                            </p:stCondLst>
                            <p:childTnLst>
                              <p:par>
                                <p:cTn id="2800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8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8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804" dur="10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5" fill="hold">
                            <p:stCondLst>
                              <p:cond delay="1500"/>
                            </p:stCondLst>
                            <p:childTnLst>
                              <p:par>
                                <p:cTn id="280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08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9" fill="hold">
                            <p:stCondLst>
                              <p:cond delay="2000"/>
                            </p:stCondLst>
                            <p:childTnLst>
                              <p:par>
                                <p:cTn id="281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12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3" fill="hold">
                      <p:stCondLst>
                        <p:cond delay="indefinite"/>
                      </p:stCondLst>
                      <p:childTnLst>
                        <p:par>
                          <p:cTn id="2814" fill="hold">
                            <p:stCondLst>
                              <p:cond delay="0"/>
                            </p:stCondLst>
                            <p:childTnLst>
                              <p:par>
                                <p:cTn id="28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4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05" name=""/>
          <p:cNvSpPr/>
          <p:nvPr/>
        </p:nvSpPr>
        <p:spPr>
          <a:xfrm>
            <a:off x="533520" y="1600200"/>
            <a:ext cx="784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نَحْنُ جَعَلْنَاهَا تَذْكِرَةً وَمَتَاعاً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لِلْمُقْوِينَ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                      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واقع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73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6477120" y="3352680"/>
            <a:ext cx="150336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لِلْمُقْوِينَ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1828800" y="4267080"/>
            <a:ext cx="3809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مسافرين بأرض قف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1828800" y="3352680"/>
            <a:ext cx="3809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ذين لا يخافون شيئ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1828800" y="5181480"/>
            <a:ext cx="38210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مسافرين الأقويا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1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612" name="" descr=""/>
          <p:cNvPicPr/>
          <p:nvPr/>
        </p:nvPicPr>
        <p:blipFill>
          <a:blip r:embed="rId3"/>
          <a:stretch/>
        </p:blipFill>
        <p:spPr>
          <a:xfrm>
            <a:off x="4267080" y="2590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19" dur="indefinite" restart="never" nodeType="tmRoot">
          <p:childTnLst>
            <p:seq>
              <p:cTn id="2820" dur="indefinite" nodeType="mainSeq">
                <p:childTnLst>
                  <p:par>
                    <p:cTn id="2821" fill="hold">
                      <p:stCondLst>
                        <p:cond delay="0"/>
                      </p:stCondLst>
                      <p:childTnLst>
                        <p:par>
                          <p:cTn id="2822" fill="hold">
                            <p:stCondLst>
                              <p:cond delay="0"/>
                            </p:stCondLst>
                            <p:childTnLst>
                              <p:par>
                                <p:cTn id="282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8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8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827" dur="10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29" dur="8098" fill="hold"/>
                                        <p:tgtEl>
                                          <p:spTgt spid="6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0" fill="hold">
                      <p:stCondLst>
                        <p:cond delay="indefinite"/>
                      </p:stCondLst>
                      <p:childTnLst>
                        <p:par>
                          <p:cTn id="2831" fill="hold">
                            <p:stCondLst>
                              <p:cond delay="0"/>
                            </p:stCondLst>
                            <p:childTnLst>
                              <p:par>
                                <p:cTn id="283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36" dur="10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3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40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1" fill="hold">
                            <p:stCondLst>
                              <p:cond delay="1500"/>
                            </p:stCondLst>
                            <p:childTnLst>
                              <p:par>
                                <p:cTn id="284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44" dur="80"/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45" dur="80"/>
                                        <p:tgtEl>
                                          <p:spTgt spid="6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46" dur="80"/>
                                        <p:tgtEl>
                                          <p:spTgt spid="6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7" fill="hold">
                            <p:stCondLst>
                              <p:cond delay="2180"/>
                            </p:stCondLst>
                            <p:childTnLst>
                              <p:par>
                                <p:cTn id="284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0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1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5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4" dur="500" fill="hold"/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5" dur="500" fill="hold"/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6" fill="hold">
                      <p:stCondLst>
                        <p:cond delay="indefinite"/>
                      </p:stCondLst>
                      <p:childTnLst>
                        <p:par>
                          <p:cTn id="2857" fill="hold">
                            <p:stCondLst>
                              <p:cond delay="0"/>
                            </p:stCondLst>
                            <p:childTnLst>
                              <p:par>
                                <p:cTn id="285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3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14" name=""/>
          <p:cNvSpPr/>
          <p:nvPr/>
        </p:nvSpPr>
        <p:spPr>
          <a:xfrm>
            <a:off x="685800" y="175248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أَفَبِهَذَا الْحَدِيثِ أَنْتُمْ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مُدْهِنُونَ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واقع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81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6705720" y="3581280"/>
            <a:ext cx="146844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مُدْهِنُونَ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3124080" y="3581280"/>
            <a:ext cx="15289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تهاونو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4876920" y="3581280"/>
            <a:ext cx="1546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كافرو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1219320" y="3581280"/>
            <a:ext cx="16462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تمزحو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0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621" name="" descr=""/>
          <p:cNvPicPr/>
          <p:nvPr/>
        </p:nvPicPr>
        <p:blipFill>
          <a:blip r:embed="rId3"/>
          <a:stretch/>
        </p:blipFill>
        <p:spPr>
          <a:xfrm>
            <a:off x="3962520" y="24382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64" dur="indefinite" restart="never" nodeType="tmRoot">
          <p:childTnLst>
            <p:seq>
              <p:cTn id="2865" dur="indefinite" nodeType="mainSeq">
                <p:childTnLst>
                  <p:par>
                    <p:cTn id="2866" fill="hold">
                      <p:stCondLst>
                        <p:cond delay="0"/>
                      </p:stCondLst>
                      <p:childTnLst>
                        <p:par>
                          <p:cTn id="2867" fill="hold">
                            <p:stCondLst>
                              <p:cond delay="0"/>
                            </p:stCondLst>
                            <p:childTnLst>
                              <p:par>
                                <p:cTn id="286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0" dur="1000" fill="hold"/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1" dur="1000" fill="hold"/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72" dur="1000"/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74" dur="6949" fill="hold"/>
                                        <p:tgtEl>
                                          <p:spTgt spid="6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5" fill="hold">
                      <p:stCondLst>
                        <p:cond delay="indefinite"/>
                      </p:stCondLst>
                      <p:childTnLst>
                        <p:par>
                          <p:cTn id="2876" fill="hold">
                            <p:stCondLst>
                              <p:cond delay="0"/>
                            </p:stCondLst>
                            <p:childTnLst>
                              <p:par>
                                <p:cTn id="287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79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0" fill="hold">
                            <p:stCondLst>
                              <p:cond delay="500"/>
                            </p:stCondLst>
                            <p:childTnLst>
                              <p:par>
                                <p:cTn id="288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83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4" fill="hold">
                            <p:stCondLst>
                              <p:cond delay="1000"/>
                            </p:stCondLst>
                            <p:childTnLst>
                              <p:par>
                                <p:cTn id="288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7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8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9" fill="hold">
                            <p:stCondLst>
                              <p:cond delay="1500"/>
                            </p:stCondLst>
                            <p:childTnLst>
                              <p:par>
                                <p:cTn id="2890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2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3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4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5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6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7" fill="hold">
                      <p:stCondLst>
                        <p:cond delay="indefinite"/>
                      </p:stCondLst>
                      <p:childTnLst>
                        <p:par>
                          <p:cTn id="2898" fill="hold">
                            <p:stCondLst>
                              <p:cond delay="0"/>
                            </p:stCondLst>
                            <p:childTnLst>
                              <p:par>
                                <p:cTn id="289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0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2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838080" y="1752480"/>
            <a:ext cx="723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فَلَوْلا إِنْ كُنْتُمْ غَيْرَ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مَدِينِينَ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واقع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86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6781680" y="3505320"/>
            <a:ext cx="14050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مَدِينِينَ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990720" y="3505320"/>
            <a:ext cx="15904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جزيي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4800600" y="3505320"/>
            <a:ext cx="16765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حاسبي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2895480" y="3505320"/>
            <a:ext cx="16113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بالين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9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630" name="" descr=""/>
          <p:cNvPicPr/>
          <p:nvPr/>
        </p:nvPicPr>
        <p:blipFill>
          <a:blip r:embed="rId3"/>
          <a:stretch/>
        </p:blipFill>
        <p:spPr>
          <a:xfrm>
            <a:off x="4038480" y="25146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03" dur="indefinite" restart="never" nodeType="tmRoot">
          <p:childTnLst>
            <p:seq>
              <p:cTn id="2904" dur="indefinite" nodeType="mainSeq">
                <p:childTnLst>
                  <p:par>
                    <p:cTn id="2905" fill="hold">
                      <p:stCondLst>
                        <p:cond delay="0"/>
                      </p:stCondLst>
                      <p:childTnLst>
                        <p:par>
                          <p:cTn id="2906" fill="hold">
                            <p:stCondLst>
                              <p:cond delay="0"/>
                            </p:stCondLst>
                            <p:childTnLst>
                              <p:par>
                                <p:cTn id="290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9" dur="500" fill="hold"/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0" dur="500" fill="hold"/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1" dur="500" fill="hold"/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2" dur="500" fill="hold"/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3" dur="500"/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15" dur="7889" fill="hold"/>
                                        <p:tgtEl>
                                          <p:spTgt spid="6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6" fill="hold">
                      <p:stCondLst>
                        <p:cond delay="indefinite"/>
                      </p:stCondLst>
                      <p:childTnLst>
                        <p:par>
                          <p:cTn id="2917" fill="hold">
                            <p:stCondLst>
                              <p:cond delay="0"/>
                            </p:stCondLst>
                            <p:childTnLst>
                              <p:par>
                                <p:cTn id="291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0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1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2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3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4" fill="hold">
                            <p:stCondLst>
                              <p:cond delay="500"/>
                            </p:stCondLst>
                            <p:childTnLst>
                              <p:par>
                                <p:cTn id="292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27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29" nodeType="afterEffect" fill="hold" presetClass="entr" presetID="5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9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9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933" dur="10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4" fill="hold">
                            <p:stCondLst>
                              <p:cond delay="2000"/>
                            </p:stCondLst>
                            <p:childTnLst>
                              <p:par>
                                <p:cTn id="293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37" dur="80"/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38" dur="80"/>
                                        <p:tgtEl>
                                          <p:spTgt spid="6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39" dur="80"/>
                                        <p:tgtEl>
                                          <p:spTgt spid="6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0" fill="hold">
                      <p:stCondLst>
                        <p:cond delay="indefinite"/>
                      </p:stCondLst>
                      <p:childTnLst>
                        <p:par>
                          <p:cTn id="2941" fill="hold">
                            <p:stCondLst>
                              <p:cond delay="0"/>
                            </p:stCondLst>
                            <p:childTnLst>
                              <p:par>
                                <p:cTn id="2942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943" dur="80"/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44" dur="80"/>
                                        <p:tgtEl>
                                          <p:spTgt spid="6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45" dur="80"/>
                                        <p:tgtEl>
                                          <p:spTgt spid="6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946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47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948" dur="80"/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49" dur="80"/>
                                        <p:tgtEl>
                                          <p:spTgt spid="6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50" dur="80"/>
                                        <p:tgtEl>
                                          <p:spTgt spid="6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951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1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32" name=""/>
          <p:cNvSpPr/>
          <p:nvPr/>
        </p:nvSpPr>
        <p:spPr>
          <a:xfrm>
            <a:off x="609480" y="1219320"/>
            <a:ext cx="7848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ثُمَّ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قَفَّيْنَا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عَلَى آثَارِهِمْ بِرُسُلِنَا وَقَفَّيْنَا بِعِيسَى ابْنِ مَرْيَمَ وَآتَيْنَاهُ الْأِنْجِيلَ وَجَعَلْنَا فِي قُلُوبِ الَّذِينَ اتَّبَعُوهُ رَأْفَةً وَرَحْمَةً وَرَهْبَانِيَّةً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ابْتَدَعُوهَا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مَا كَتَبْنَاهَا عَلَيْهِمْ إِلَّا ابْتِغَاءَ رِضْوَانِ اللَّهِ فَمَا رَعَوْهَا حَقَّ رِعَايَتِهَا فَآتَيْنَا الَّذِينَ آمَنُوا مِنْهُمْ أَجْرَهُمْ وَكَثِيرٌ مِنْهُمْ فَاسِقُونَ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حديد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27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6934320" y="3657600"/>
            <a:ext cx="137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قَفَّيْنَا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6934320" y="4572000"/>
            <a:ext cx="134136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ابْتَدَعُوهَا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5105520" y="3657600"/>
            <a:ext cx="15872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تبعن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3200400" y="3657600"/>
            <a:ext cx="15908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بعثن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1219320" y="365760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رسلن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3200400" y="4572000"/>
            <a:ext cx="16034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خترعوه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5105520" y="4572000"/>
            <a:ext cx="16286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صدقوه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1219320" y="4572000"/>
            <a:ext cx="16192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خلقوه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2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sp>
        <p:nvSpPr>
          <p:cNvPr id="643" name=""/>
          <p:cNvSpPr/>
          <p:nvPr/>
        </p:nvSpPr>
        <p:spPr>
          <a:xfrm>
            <a:off x="1101960" y="5410080"/>
            <a:ext cx="750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400" spc="-1" strike="noStrike">
                <a:solidFill>
                  <a:srgbClr val="010199"/>
                </a:solidFill>
                <a:latin typeface="Arial"/>
                <a:cs typeface="Arial"/>
              </a:rPr>
              <a:t>الابتداع هو إتيان ما لم يسبق إليه في دين أو سنة أو صنعة</a:t>
            </a:r>
            <a:r>
              <a:rPr b="0" lang="ar-SA" sz="2400" spc="-1" strike="noStrike">
                <a:solidFill>
                  <a:srgbClr val="010199"/>
                </a:solidFill>
                <a:latin typeface="Arial"/>
                <a:ea typeface="Arial"/>
              </a:rPr>
              <a:t>  </a:t>
            </a:r>
            <a:r>
              <a:rPr b="0" lang="en-US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4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52" dur="indefinite" restart="never" nodeType="tmRoot">
          <p:childTnLst>
            <p:seq>
              <p:cTn id="2953" dur="indefinite" nodeType="mainSeq">
                <p:childTnLst>
                  <p:par>
                    <p:cTn id="2954" fill="hold">
                      <p:stCondLst>
                        <p:cond delay="0"/>
                      </p:stCondLst>
                      <p:childTnLst>
                        <p:par>
                          <p:cTn id="2955" fill="hold">
                            <p:stCondLst>
                              <p:cond delay="0"/>
                            </p:stCondLst>
                            <p:childTnLst>
                              <p:par>
                                <p:cTn id="295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58" dur="500"/>
                                        <p:tgtEl>
                                          <p:spTgt spid="6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60" dur="67971" fill="hold"/>
                                        <p:tgtEl>
                                          <p:spTgt spid="6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1" fill="hold">
                      <p:stCondLst>
                        <p:cond delay="indefinite"/>
                      </p:stCondLst>
                      <p:childTnLst>
                        <p:par>
                          <p:cTn id="2962" fill="hold">
                            <p:stCondLst>
                              <p:cond delay="0"/>
                            </p:stCondLst>
                            <p:childTnLst>
                              <p:par>
                                <p:cTn id="296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9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9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967" dur="10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1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2" fill="hold">
                            <p:stCondLst>
                              <p:cond delay="1500"/>
                            </p:stCondLst>
                            <p:childTnLst>
                              <p:par>
                                <p:cTn id="297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75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6" fill="hold">
                            <p:stCondLst>
                              <p:cond delay="2000"/>
                            </p:stCondLst>
                            <p:childTnLst>
                              <p:par>
                                <p:cTn id="297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9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0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1" fill="hold">
                      <p:stCondLst>
                        <p:cond delay="indefinite"/>
                      </p:stCondLst>
                      <p:childTnLst>
                        <p:par>
                          <p:cTn id="2982" fill="hold">
                            <p:stCondLst>
                              <p:cond delay="0"/>
                            </p:stCondLst>
                            <p:childTnLst>
                              <p:par>
                                <p:cTn id="29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7" fill="hold">
                            <p:stCondLst>
                              <p:cond delay="0"/>
                            </p:stCondLst>
                            <p:childTnLst>
                              <p:par>
                                <p:cTn id="298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90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1" fill="hold">
                            <p:stCondLst>
                              <p:cond delay="500"/>
                            </p:stCondLst>
                            <p:childTnLst>
                              <p:par>
                                <p:cTn id="299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4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5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6" fill="hold">
                            <p:stCondLst>
                              <p:cond delay="1000"/>
                            </p:stCondLst>
                            <p:childTnLst>
                              <p:par>
                                <p:cTn id="299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99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0" fill="hold">
                            <p:stCondLst>
                              <p:cond delay="1500"/>
                            </p:stCondLst>
                            <p:childTnLst>
                              <p:par>
                                <p:cTn id="30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3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4" fill="hold">
                      <p:stCondLst>
                        <p:cond delay="indefinite"/>
                      </p:stCondLst>
                      <p:childTnLst>
                        <p:par>
                          <p:cTn id="3005" fill="hold">
                            <p:stCondLst>
                              <p:cond delay="0"/>
                            </p:stCondLst>
                            <p:childTnLst>
                              <p:par>
                                <p:cTn id="300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0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0" fill="hold">
                            <p:stCondLst>
                              <p:cond delay="0"/>
                            </p:stCondLst>
                            <p:childTnLst>
                              <p:par>
                                <p:cTn id="30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5" name="" descr=""/>
          <p:cNvPicPr/>
          <p:nvPr/>
        </p:nvPicPr>
        <p:blipFill>
          <a:blip r:embed="rId1"/>
          <a:stretch/>
        </p:blipFill>
        <p:spPr>
          <a:xfrm>
            <a:off x="-304920" y="-7632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46" name=""/>
          <p:cNvSpPr/>
          <p:nvPr/>
        </p:nvSpPr>
        <p:spPr>
          <a:xfrm>
            <a:off x="762120" y="1676520"/>
            <a:ext cx="77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أَصْحَابُ الْجَنَّةِ يَوْمَئِذٍ خَيْرٌ مُسْتَقَرّاً وَأَحْسَنُ </a:t>
            </a:r>
            <a:r>
              <a:rPr b="0" lang="ar-SA" sz="2800" spc="-1" strike="noStrike">
                <a:solidFill>
                  <a:srgbClr val="da42c8"/>
                </a:solidFill>
                <a:latin typeface="Arial"/>
                <a:cs typeface="Arial"/>
              </a:rPr>
              <a:t>مَقِيلاً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   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فرقان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24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7238880" y="3352680"/>
            <a:ext cx="107820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a42c8"/>
                </a:solidFill>
                <a:latin typeface="Arial"/>
                <a:cs typeface="Arial"/>
              </a:rPr>
              <a:t>مَقِيلاً</a:t>
            </a:r>
            <a:r>
              <a:rPr b="0" lang="ar-LB" sz="2800" spc="-1" strike="noStrike">
                <a:solidFill>
                  <a:srgbClr val="da42c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2819520" y="3352680"/>
            <a:ext cx="217152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كان الإستراح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5105520" y="3352680"/>
            <a:ext cx="20001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شكلاً ومقام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762120" y="3352680"/>
            <a:ext cx="19047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ثواباً ومقام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762120" y="4876920"/>
            <a:ext cx="761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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cs typeface="Arial"/>
              </a:rPr>
              <a:t>المقيل إسم مكان الاستقرار ومعناه ظاهر من القيلولة اي الاستراحة في منتصف النهار سواء معها نوم أم لا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3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654" name="" descr=""/>
          <p:cNvPicPr/>
          <p:nvPr/>
        </p:nvPicPr>
        <p:blipFill>
          <a:blip r:embed="rId3"/>
          <a:stretch/>
        </p:blipFill>
        <p:spPr>
          <a:xfrm>
            <a:off x="3429000" y="23623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14" dur="indefinite" restart="never" nodeType="tmRoot">
          <p:childTnLst>
            <p:seq>
              <p:cTn id="3015" dur="indefinite" nodeType="mainSeq">
                <p:childTnLst>
                  <p:par>
                    <p:cTn id="3016" fill="hold">
                      <p:stCondLst>
                        <p:cond delay="0"/>
                      </p:stCondLst>
                      <p:childTnLst>
                        <p:par>
                          <p:cTn id="3017" fill="hold">
                            <p:stCondLst>
                              <p:cond delay="0"/>
                            </p:stCondLst>
                            <p:childTnLst>
                              <p:par>
                                <p:cTn id="301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0" dur="1000" fill="hold"/>
                                        <p:tgtEl>
                                          <p:spTgt spid="6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1" dur="1000" fill="hold"/>
                                        <p:tgtEl>
                                          <p:spTgt spid="6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22" dur="1000"/>
                                        <p:tgtEl>
                                          <p:spTgt spid="6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24" dur="9405" fill="hold"/>
                                        <p:tgtEl>
                                          <p:spTgt spid="6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5" fill="hold">
                      <p:stCondLst>
                        <p:cond delay="indefinite"/>
                      </p:stCondLst>
                      <p:childTnLst>
                        <p:par>
                          <p:cTn id="3026" fill="hold">
                            <p:stCondLst>
                              <p:cond delay="0"/>
                            </p:stCondLst>
                            <p:childTnLst>
                              <p:par>
                                <p:cTn id="302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0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0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031" dur="10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2" fill="hold">
                            <p:stCondLst>
                              <p:cond delay="1000"/>
                            </p:stCondLst>
                            <p:childTnLst>
                              <p:par>
                                <p:cTn id="303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35" dur="80"/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36" dur="80"/>
                                        <p:tgtEl>
                                          <p:spTgt spid="6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37" dur="80"/>
                                        <p:tgtEl>
                                          <p:spTgt spid="6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40" dur="80"/>
                                        <p:tgtEl>
                                          <p:spTgt spid="6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41" dur="80"/>
                                        <p:tgtEl>
                                          <p:spTgt spid="6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42" dur="80"/>
                                        <p:tgtEl>
                                          <p:spTgt spid="6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3" fill="hold">
                            <p:stCondLst>
                              <p:cond delay="1520"/>
                            </p:stCondLst>
                            <p:childTnLst>
                              <p:par>
                                <p:cTn id="304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6" dur="8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7" dur="8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8" dur="8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9" dur="8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2" fill="hold">
                            <p:stCondLst>
                              <p:cond delay="2520"/>
                            </p:stCondLst>
                            <p:childTnLst>
                              <p:par>
                                <p:cTn id="305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55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6" fill="hold">
                      <p:stCondLst>
                        <p:cond delay="indefinite"/>
                      </p:stCondLst>
                      <p:childTnLst>
                        <p:par>
                          <p:cTn id="3057" fill="hold">
                            <p:stCondLst>
                              <p:cond delay="0"/>
                            </p:stCondLst>
                            <p:childTnLst>
                              <p:par>
                                <p:cTn id="3058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059" dur="80"/>
                                        <p:tgtEl>
                                          <p:spTgt spid="6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60" dur="80"/>
                                        <p:tgtEl>
                                          <p:spTgt spid="6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61" dur="80"/>
                                        <p:tgtEl>
                                          <p:spTgt spid="6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062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6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63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064" dur="80"/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65" dur="80"/>
                                        <p:tgtEl>
                                          <p:spTgt spid="6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66" dur="80"/>
                                        <p:tgtEl>
                                          <p:spTgt spid="6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067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68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069" dur="80"/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70" dur="80"/>
                                        <p:tgtEl>
                                          <p:spTgt spid="6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71" dur="80"/>
                                        <p:tgtEl>
                                          <p:spTgt spid="6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072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3" fill="hold">
                            <p:stCondLst>
                              <p:cond delay="560"/>
                            </p:stCondLst>
                            <p:childTnLst>
                              <p:par>
                                <p:cTn id="30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6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5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56" name=""/>
          <p:cNvSpPr/>
          <p:nvPr/>
        </p:nvSpPr>
        <p:spPr>
          <a:xfrm>
            <a:off x="838080" y="1523880"/>
            <a:ext cx="77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عَاداً وَثَمُودَا وَأَصْحَابَ </a:t>
            </a:r>
            <a:r>
              <a:rPr b="0" lang="ar-SA" sz="2800" spc="-1" strike="noStrike">
                <a:solidFill>
                  <a:srgbClr val="da42c8"/>
                </a:solidFill>
                <a:latin typeface="Arial"/>
                <a:cs typeface="Arial"/>
              </a:rPr>
              <a:t>الرَّسِّ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وَقُرُوناً بَيْنَ ذَلِكَ كَثِيراً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فرقان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38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6858000" y="3429000"/>
            <a:ext cx="137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a42c8"/>
                </a:solidFill>
                <a:latin typeface="Arial"/>
                <a:cs typeface="Arial"/>
              </a:rPr>
              <a:t>الرَّسِّ</a:t>
            </a:r>
            <a:r>
              <a:rPr b="0" lang="ar-LB" sz="2800" spc="-1" strike="noStrike">
                <a:solidFill>
                  <a:srgbClr val="da42c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2819520" y="3429000"/>
            <a:ext cx="17524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قري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4876920" y="3429000"/>
            <a:ext cx="16761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بئ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838080" y="3429000"/>
            <a:ext cx="16765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أرض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2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663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77" dur="indefinite" restart="never" nodeType="tmRoot">
          <p:childTnLst>
            <p:seq>
              <p:cTn id="3078" dur="indefinite" nodeType="mainSeq">
                <p:childTnLst>
                  <p:par>
                    <p:cTn id="3079" fill="hold">
                      <p:stCondLst>
                        <p:cond delay="0"/>
                      </p:stCondLst>
                      <p:childTnLst>
                        <p:par>
                          <p:cTn id="3080" fill="hold">
                            <p:stCondLst>
                              <p:cond delay="0"/>
                            </p:stCondLst>
                            <p:childTnLst>
                              <p:par>
                                <p:cTn id="308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83" dur="500"/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85" dur="9405" fill="hold"/>
                                        <p:tgtEl>
                                          <p:spTgt spid="6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6" fill="hold">
                      <p:stCondLst>
                        <p:cond delay="indefinite"/>
                      </p:stCondLst>
                      <p:childTnLst>
                        <p:par>
                          <p:cTn id="3087" fill="hold">
                            <p:stCondLst>
                              <p:cond delay="0"/>
                            </p:stCondLst>
                            <p:childTnLst>
                              <p:par>
                                <p:cTn id="308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90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1" fill="hold">
                            <p:stCondLst>
                              <p:cond delay="500"/>
                            </p:stCondLst>
                            <p:childTnLst>
                              <p:par>
                                <p:cTn id="309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4" dur="80"/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95" dur="80"/>
                                        <p:tgtEl>
                                          <p:spTgt spid="6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96" dur="80"/>
                                        <p:tgtEl>
                                          <p:spTgt spid="6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7" fill="hold">
                            <p:stCondLst>
                              <p:cond delay="740"/>
                            </p:stCondLst>
                            <p:childTnLst>
                              <p:par>
                                <p:cTn id="3098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3" dur="10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8" fill="hold">
                            <p:stCondLst>
                              <p:cond delay="1740"/>
                            </p:stCondLst>
                            <p:childTnLst>
                              <p:par>
                                <p:cTn id="3109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4" dur="1000" fill="hold"/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9" fill="hold">
                            <p:stCondLst>
                              <p:cond delay="2740"/>
                            </p:stCondLst>
                            <p:childTnLst>
                              <p:par>
                                <p:cTn id="3120" nodeType="after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2" dur="8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3" dur="8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4" dur="8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5" dur="8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8" fill="hold">
                      <p:stCondLst>
                        <p:cond delay="indefinite"/>
                      </p:stCondLst>
                      <p:childTnLst>
                        <p:par>
                          <p:cTn id="3129" fill="hold">
                            <p:stCondLst>
                              <p:cond delay="0"/>
                            </p:stCondLst>
                            <p:childTnLst>
                              <p:par>
                                <p:cTn id="3130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131" dur="80"/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32" dur="80"/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33" dur="80"/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134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5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136" dur="80"/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37" dur="80"/>
                                        <p:tgtEl>
                                          <p:spTgt spid="6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38" dur="80"/>
                                        <p:tgtEl>
                                          <p:spTgt spid="6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139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40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141" dur="80"/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42" dur="80"/>
                                        <p:tgtEl>
                                          <p:spTgt spid="6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43" dur="80"/>
                                        <p:tgtEl>
                                          <p:spTgt spid="6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144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4" name="" descr=""/>
          <p:cNvPicPr/>
          <p:nvPr/>
        </p:nvPicPr>
        <p:blipFill>
          <a:blip r:embed="rId1"/>
          <a:stretch/>
        </p:blipFill>
        <p:spPr>
          <a:xfrm>
            <a:off x="-457200" y="0"/>
            <a:ext cx="9906120" cy="7315200"/>
          </a:xfrm>
          <a:prstGeom prst="rect">
            <a:avLst/>
          </a:prstGeom>
          <a:ln w="0">
            <a:noFill/>
          </a:ln>
        </p:spPr>
      </p:pic>
      <p:sp>
        <p:nvSpPr>
          <p:cNvPr id="665" name=""/>
          <p:cNvSpPr/>
          <p:nvPr/>
        </p:nvSpPr>
        <p:spPr>
          <a:xfrm>
            <a:off x="838080" y="1752480"/>
            <a:ext cx="754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وَكُلّاً ضَرَبْنَا لَهُ الْأَمْثَالَ وَكُلّاً </a:t>
            </a:r>
            <a:r>
              <a:rPr b="0" lang="ar-SA" sz="2800" spc="-1" strike="noStrike">
                <a:solidFill>
                  <a:srgbClr val="da42c8"/>
                </a:solidFill>
                <a:latin typeface="Arial"/>
                <a:cs typeface="Arial"/>
              </a:rPr>
              <a:t>تَبَّرْنَا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تَتْبِيراً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                  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فرقان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39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6705720" y="3657600"/>
            <a:ext cx="14000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a42c8"/>
                </a:solidFill>
                <a:latin typeface="Arial"/>
                <a:cs typeface="Arial"/>
              </a:rPr>
              <a:t>تَبَّرْنَا</a:t>
            </a:r>
            <a:r>
              <a:rPr b="0" lang="ar-LB" sz="2800" spc="-1" strike="noStrike">
                <a:solidFill>
                  <a:srgbClr val="da42c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2819520" y="3657600"/>
            <a:ext cx="1523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أهلكن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4724280" y="3657600"/>
            <a:ext cx="15861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ضربن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990720" y="3657600"/>
            <a:ext cx="14475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حاسبن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1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672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45" dur="indefinite" restart="never" nodeType="tmRoot">
          <p:childTnLst>
            <p:seq>
              <p:cTn id="3146" dur="indefinite" nodeType="mainSeq">
                <p:childTnLst>
                  <p:par>
                    <p:cTn id="3147" fill="hold">
                      <p:stCondLst>
                        <p:cond delay="0"/>
                      </p:stCondLst>
                      <p:childTnLst>
                        <p:par>
                          <p:cTn id="3148" fill="hold">
                            <p:stCondLst>
                              <p:cond delay="0"/>
                            </p:stCondLst>
                            <p:childTnLst>
                              <p:par>
                                <p:cTn id="314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1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1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153" dur="1000"/>
                                        <p:tgtEl>
                                          <p:spTgt spid="6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55" dur="9561" fill="hold"/>
                                        <p:tgtEl>
                                          <p:spTgt spid="6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6" fill="hold">
                      <p:stCondLst>
                        <p:cond delay="indefinite"/>
                      </p:stCondLst>
                      <p:childTnLst>
                        <p:par>
                          <p:cTn id="3157" fill="hold">
                            <p:stCondLst>
                              <p:cond delay="0"/>
                            </p:stCondLst>
                            <p:childTnLst>
                              <p:par>
                                <p:cTn id="315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0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1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2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3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4" fill="hold">
                            <p:stCondLst>
                              <p:cond delay="500"/>
                            </p:stCondLst>
                            <p:childTnLst>
                              <p:par>
                                <p:cTn id="316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67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70" dur="500"/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1" fill="hold">
                            <p:stCondLst>
                              <p:cond delay="1000"/>
                            </p:stCondLst>
                            <p:childTnLst>
                              <p:par>
                                <p:cTn id="317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74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5" fill="hold">
                            <p:stCondLst>
                              <p:cond delay="1500"/>
                            </p:stCondLst>
                            <p:childTnLst>
                              <p:par>
                                <p:cTn id="317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8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9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0" fill="hold">
                      <p:stCondLst>
                        <p:cond delay="indefinite"/>
                      </p:stCondLst>
                      <p:childTnLst>
                        <p:par>
                          <p:cTn id="3181" fill="hold">
                            <p:stCondLst>
                              <p:cond delay="0"/>
                            </p:stCondLst>
                            <p:childTnLst>
                              <p:par>
                                <p:cTn id="318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8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8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3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74" name=""/>
          <p:cNvSpPr/>
          <p:nvPr/>
        </p:nvSpPr>
        <p:spPr>
          <a:xfrm>
            <a:off x="990720" y="1447920"/>
            <a:ext cx="716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الَّذِينَ يَقُولُونَ رَبَّنَا اصْرِفْ عَنَّا عَذَابَ جَهَنَّمَ إِنَّ عَذَابَهَا كَانَ </a:t>
            </a:r>
            <a:r>
              <a:rPr b="0" lang="ar-SA" sz="2800" spc="-1" strike="noStrike">
                <a:solidFill>
                  <a:srgbClr val="da42c8"/>
                </a:solidFill>
                <a:latin typeface="Arial"/>
                <a:cs typeface="Arial"/>
              </a:rPr>
              <a:t>غَرَاماً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فرقان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65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6858000" y="3200400"/>
            <a:ext cx="13492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a42c8"/>
                </a:solidFill>
                <a:latin typeface="Arial"/>
                <a:cs typeface="Arial"/>
              </a:rPr>
              <a:t>غَرَاماً</a:t>
            </a:r>
            <a:r>
              <a:rPr b="0" lang="ar-LB" sz="2800" spc="-1" strike="noStrike">
                <a:solidFill>
                  <a:srgbClr val="da42c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4952880" y="3200400"/>
            <a:ext cx="15433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لازم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2971800" y="3200400"/>
            <a:ext cx="16225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شديد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990720" y="320040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وجع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609480" y="4687920"/>
            <a:ext cx="739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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cs typeface="Arial"/>
              </a:rPr>
              <a:t>الغرام  ما ينوب الانسان من شدة أو مصيبة فيلازمه لا يفارقه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1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682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88" dur="indefinite" restart="never" nodeType="tmRoot">
          <p:childTnLst>
            <p:seq>
              <p:cTn id="3189" dur="indefinite" nodeType="mainSeq">
                <p:childTnLst>
                  <p:par>
                    <p:cTn id="3190" fill="hold">
                      <p:stCondLst>
                        <p:cond delay="0"/>
                      </p:stCondLst>
                      <p:childTnLst>
                        <p:par>
                          <p:cTn id="3191" fill="hold">
                            <p:stCondLst>
                              <p:cond delay="0"/>
                            </p:stCondLst>
                            <p:childTnLst>
                              <p:par>
                                <p:cTn id="319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94" dur="500"/>
                                        <p:tgtEl>
                                          <p:spTgt spid="6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96" dur="12591" fill="hold"/>
                                        <p:tgtEl>
                                          <p:spTgt spid="6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7" fill="hold">
                      <p:stCondLst>
                        <p:cond delay="indefinite"/>
                      </p:stCondLst>
                      <p:childTnLst>
                        <p:par>
                          <p:cTn id="3198" fill="hold">
                            <p:stCondLst>
                              <p:cond delay="0"/>
                            </p:stCondLst>
                            <p:childTnLst>
                              <p:par>
                                <p:cTn id="319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01" dur="80"/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02" dur="80"/>
                                        <p:tgtEl>
                                          <p:spTgt spid="6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03" dur="80"/>
                                        <p:tgtEl>
                                          <p:spTgt spid="6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4" fill="hold">
                            <p:stCondLst>
                              <p:cond delay="400"/>
                            </p:stCondLst>
                            <p:childTnLst>
                              <p:par>
                                <p:cTn id="320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0" dur="10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5" fill="hold">
                            <p:stCondLst>
                              <p:cond delay="1400"/>
                            </p:stCondLst>
                            <p:childTnLst>
                              <p:par>
                                <p:cTn id="3216" nodeType="after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8" dur="8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9" dur="8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0" dur="8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1" dur="8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24" nodeType="with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6" dur="800"/>
                                        <p:tgtEl>
                                          <p:spTgt spid="6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7" dur="800" fill="hold"/>
                                        <p:tgtEl>
                                          <p:spTgt spid="6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8" dur="800" fill="hold"/>
                                        <p:tgtEl>
                                          <p:spTgt spid="6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9" dur="800" fill="hold"/>
                                        <p:tgtEl>
                                          <p:spTgt spid="6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2" fill="hold">
                            <p:stCondLst>
                              <p:cond delay="2400"/>
                            </p:stCondLst>
                            <p:childTnLst>
                              <p:par>
                                <p:cTn id="3233" nodeType="afterEffect" fill="hold" presetClass="entr" presetID="5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5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6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7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8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9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0" fill="hold">
                      <p:stCondLst>
                        <p:cond delay="indefinite"/>
                      </p:stCondLst>
                      <p:childTnLst>
                        <p:par>
                          <p:cTn id="3241" fill="hold">
                            <p:stCondLst>
                              <p:cond delay="0"/>
                            </p:stCondLst>
                            <p:childTnLst>
                              <p:par>
                                <p:cTn id="3242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243" dur="80"/>
                                        <p:tgtEl>
                                          <p:spTgt spid="6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44" dur="80"/>
                                        <p:tgtEl>
                                          <p:spTgt spid="6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45" dur="80"/>
                                        <p:tgtEl>
                                          <p:spTgt spid="6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246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6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47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248" dur="80"/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49" dur="80"/>
                                        <p:tgtEl>
                                          <p:spTgt spid="6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50" dur="80"/>
                                        <p:tgtEl>
                                          <p:spTgt spid="6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251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2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253" dur="80"/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54" dur="80"/>
                                        <p:tgtEl>
                                          <p:spTgt spid="6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55" dur="80"/>
                                        <p:tgtEl>
                                          <p:spTgt spid="6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256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7" fill="hold">
                            <p:stCondLst>
                              <p:cond delay="280"/>
                            </p:stCondLst>
                            <p:childTnLst>
                              <p:par>
                                <p:cTn id="32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0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1066680" y="1523880"/>
            <a:ext cx="701064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أَلَكُمُ الذَّكَرُ وَلَهُ الْأُنْثَى </a:t>
            </a:r>
            <a:r>
              <a:rPr b="0" lang="ar-SA" sz="2800" spc="-1" strike="noStrike">
                <a:solidFill>
                  <a:srgbClr val="010199"/>
                </a:solidFill>
                <a:latin typeface="Wingdings 2"/>
                <a:ea typeface="Wingdings 2"/>
              </a:rPr>
              <a:t>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تِلْكَ إِذاً قِسْمَةٌ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ضِيزَى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ا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لنجم: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21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و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22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705720" y="3429000"/>
            <a:ext cx="14079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ضِيزَى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971800" y="3429000"/>
            <a:ext cx="15858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جائر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15048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زائف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3429000"/>
            <a:ext cx="15256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باطل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4419720" y="10666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9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2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4" dur="8673" fill="hold"/>
                                        <p:tgtEl>
                                          <p:spTgt spid="1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500"/>
                            </p:stCondLst>
                            <p:childTnLst>
                              <p:par>
                                <p:cTn id="21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1000"/>
                            </p:stCondLst>
                            <p:childTnLst>
                              <p:par>
                                <p:cTn id="21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0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1500"/>
                            </p:stCondLst>
                            <p:childTnLst>
                              <p:par>
                                <p:cTn id="22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6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2500"/>
                            </p:stCondLst>
                            <p:childTnLst>
                              <p:par>
                                <p:cTn id="22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0" dur="8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1" dur="8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2" dur="8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xit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3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84" name=""/>
          <p:cNvSpPr/>
          <p:nvPr/>
        </p:nvSpPr>
        <p:spPr>
          <a:xfrm>
            <a:off x="838080" y="1600200"/>
            <a:ext cx="77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أُولَئِكَ يُجْزَوْنَ</a:t>
            </a:r>
            <a:r>
              <a:rPr b="0" lang="ar-SA" sz="2800" spc="-1" strike="noStrike">
                <a:solidFill>
                  <a:srgbClr val="da42c8"/>
                </a:solidFill>
                <a:latin typeface="Arial"/>
                <a:ea typeface="Arial"/>
              </a:rPr>
              <a:t> الْغُرْفَةَ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بِمَا صَبَرُوا وَيُلَقَّوْنَ فِيهَا تَحِيَّةً وَسَلاماً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فرقان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75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6858000" y="3657600"/>
            <a:ext cx="13827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a42c8"/>
                </a:solidFill>
                <a:latin typeface="Arial"/>
                <a:cs typeface="Arial"/>
              </a:rPr>
              <a:t>الْغُرْفَةَ</a:t>
            </a:r>
            <a:r>
              <a:rPr b="0" lang="ar-LB" sz="2800" spc="-1" strike="noStrike">
                <a:solidFill>
                  <a:srgbClr val="da42c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838080" y="3657600"/>
            <a:ext cx="190512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درجة العالي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4876920" y="3657600"/>
            <a:ext cx="18129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قصو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2895480" y="3657600"/>
            <a:ext cx="18288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حو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0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691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61" dur="indefinite" restart="never" nodeType="tmRoot">
          <p:childTnLst>
            <p:seq>
              <p:cTn id="3262" dur="indefinite" nodeType="mainSeq">
                <p:childTnLst>
                  <p:par>
                    <p:cTn id="3263" fill="hold">
                      <p:stCondLst>
                        <p:cond delay="0"/>
                      </p:stCondLst>
                      <p:childTnLst>
                        <p:par>
                          <p:cTn id="3264" fill="hold">
                            <p:stCondLst>
                              <p:cond delay="0"/>
                            </p:stCondLst>
                            <p:childTnLst>
                              <p:par>
                                <p:cTn id="326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7" dur="1000" fill="hold"/>
                                        <p:tgtEl>
                                          <p:spTgt spid="6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8" dur="1000" fill="hold"/>
                                        <p:tgtEl>
                                          <p:spTgt spid="6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69" dur="1000"/>
                                        <p:tgtEl>
                                          <p:spTgt spid="6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71" dur="11651" fill="hold"/>
                                        <p:tgtEl>
                                          <p:spTgt spid="6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2" fill="hold">
                      <p:stCondLst>
                        <p:cond delay="indefinite"/>
                      </p:stCondLst>
                      <p:childTnLst>
                        <p:par>
                          <p:cTn id="3273" fill="hold">
                            <p:stCondLst>
                              <p:cond delay="0"/>
                            </p:stCondLst>
                            <p:childTnLst>
                              <p:par>
                                <p:cTn id="327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6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7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8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9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0" fill="hold">
                            <p:stCondLst>
                              <p:cond delay="500"/>
                            </p:stCondLst>
                            <p:childTnLst>
                              <p:par>
                                <p:cTn id="328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3" dur="8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4" dur="8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5" dur="8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6" dur="8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9" fill="hold">
                            <p:stCondLst>
                              <p:cond delay="1500"/>
                            </p:stCondLst>
                            <p:childTnLst>
                              <p:par>
                                <p:cTn id="3290" nodeType="after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2" dur="800"/>
                                        <p:tgtEl>
                                          <p:spTgt spid="6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3" dur="800" fill="hold"/>
                                        <p:tgtEl>
                                          <p:spTgt spid="6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4" dur="800" fill="hold"/>
                                        <p:tgtEl>
                                          <p:spTgt spid="6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5" dur="800" fill="hold"/>
                                        <p:tgtEl>
                                          <p:spTgt spid="6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8" fill="hold">
                            <p:stCondLst>
                              <p:cond delay="2500"/>
                            </p:stCondLst>
                            <p:childTnLst>
                              <p:par>
                                <p:cTn id="329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01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5" dur="5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6" dur="5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7" fill="hold">
                      <p:stCondLst>
                        <p:cond delay="indefinite"/>
                      </p:stCondLst>
                      <p:childTnLst>
                        <p:par>
                          <p:cTn id="3308" fill="hold">
                            <p:stCondLst>
                              <p:cond delay="0"/>
                            </p:stCondLst>
                            <p:childTnLst>
                              <p:par>
                                <p:cTn id="3309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310" dur="80"/>
                                        <p:tgtEl>
                                          <p:spTgt spid="6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11" dur="80"/>
                                        <p:tgtEl>
                                          <p:spTgt spid="6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12" dur="80"/>
                                        <p:tgtEl>
                                          <p:spTgt spid="6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313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6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14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315" dur="80"/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16" dur="80"/>
                                        <p:tgtEl>
                                          <p:spTgt spid="6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17" dur="80"/>
                                        <p:tgtEl>
                                          <p:spTgt spid="6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318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19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320" dur="80"/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21" dur="80"/>
                                        <p:tgtEl>
                                          <p:spTgt spid="6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22" dur="80"/>
                                        <p:tgtEl>
                                          <p:spTgt spid="6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323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2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93" name=""/>
          <p:cNvSpPr/>
          <p:nvPr/>
        </p:nvSpPr>
        <p:spPr>
          <a:xfrm>
            <a:off x="685800" y="167652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da42c8"/>
                </a:solidFill>
                <a:latin typeface="Arial"/>
                <a:cs typeface="Arial"/>
              </a:rPr>
              <a:t>فَكُبْكِبُوا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فِيهَا هُمْ وَ</a:t>
            </a:r>
            <a:r>
              <a:rPr b="0" lang="ar-SA" sz="2800" spc="-1" strike="noStrike">
                <a:solidFill>
                  <a:srgbClr val="da42c8"/>
                </a:solidFill>
                <a:latin typeface="Arial"/>
                <a:cs typeface="Arial"/>
              </a:rPr>
              <a:t>الْغَاوُونَ</a:t>
            </a:r>
            <a:r>
              <a:rPr b="0" lang="ar-LB" sz="2800" spc="-1" strike="noStrike">
                <a:solidFill>
                  <a:srgbClr val="da42c8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شعراء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94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6934320" y="3200400"/>
            <a:ext cx="131904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a42c8"/>
                </a:solidFill>
                <a:latin typeface="Arial"/>
                <a:cs typeface="Arial"/>
              </a:rPr>
              <a:t>فَكُبْكِبُوا</a:t>
            </a:r>
            <a:r>
              <a:rPr b="0" lang="ar-LB" sz="2800" spc="-1" strike="noStrike">
                <a:solidFill>
                  <a:srgbClr val="da42c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6747120" y="5486400"/>
            <a:ext cx="17791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a42c8"/>
                </a:solidFill>
                <a:latin typeface="Arial"/>
                <a:cs typeface="Arial"/>
              </a:rPr>
              <a:t>َالْغَاوُونَ</a:t>
            </a:r>
            <a:r>
              <a:rPr b="0" lang="ar-LB" sz="2800" spc="-1" strike="noStrike">
                <a:solidFill>
                  <a:srgbClr val="da42c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5029200" y="5486400"/>
            <a:ext cx="18223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ضالو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2895480" y="5486400"/>
            <a:ext cx="17528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معرضو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990720" y="5486400"/>
            <a:ext cx="160020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مفسدو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1828800" y="3200400"/>
            <a:ext cx="44053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فألقوا على وجوهه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1828800" y="3962520"/>
            <a:ext cx="44434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فتعذبوا في النا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1828800" y="4724280"/>
            <a:ext cx="44863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فأسقطوا في جهن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3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704" name="" descr=""/>
          <p:cNvPicPr/>
          <p:nvPr/>
        </p:nvPicPr>
        <p:blipFill>
          <a:blip r:embed="rId3"/>
          <a:stretch/>
        </p:blipFill>
        <p:spPr>
          <a:xfrm>
            <a:off x="2133720" y="2133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24" dur="indefinite" restart="never" nodeType="tmRoot">
          <p:childTnLst>
            <p:seq>
              <p:cTn id="3325" dur="indefinite" nodeType="mainSeq">
                <p:childTnLst>
                  <p:par>
                    <p:cTn id="3326" fill="hold">
                      <p:stCondLst>
                        <p:cond delay="0"/>
                      </p:stCondLst>
                      <p:childTnLst>
                        <p:par>
                          <p:cTn id="3327" fill="hold">
                            <p:stCondLst>
                              <p:cond delay="0"/>
                            </p:stCondLst>
                            <p:childTnLst>
                              <p:par>
                                <p:cTn id="332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0" dur="800"/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1" dur="800" fill="hold"/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2" dur="800" fill="hold"/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3" dur="800" fill="hold"/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3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37" dur="4337" fill="hold"/>
                                        <p:tgtEl>
                                          <p:spTgt spid="7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8" fill="hold">
                      <p:stCondLst>
                        <p:cond delay="indefinite"/>
                      </p:stCondLst>
                      <p:childTnLst>
                        <p:par>
                          <p:cTn id="3339" fill="hold">
                            <p:stCondLst>
                              <p:cond delay="0"/>
                            </p:stCondLst>
                            <p:childTnLst>
                              <p:par>
                                <p:cTn id="334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2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3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4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5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6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7" fill="hold">
                            <p:stCondLst>
                              <p:cond delay="500"/>
                            </p:stCondLst>
                            <p:childTnLst>
                              <p:par>
                                <p:cTn id="334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50" dur="80"/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51" dur="80"/>
                                        <p:tgtEl>
                                          <p:spTgt spid="6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2" dur="80"/>
                                        <p:tgtEl>
                                          <p:spTgt spid="6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3" fill="hold">
                            <p:stCondLst>
                              <p:cond delay="1140"/>
                            </p:stCondLst>
                            <p:childTnLst>
                              <p:par>
                                <p:cTn id="335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56" dur="80"/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57" dur="80"/>
                                        <p:tgtEl>
                                          <p:spTgt spid="7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8" dur="80"/>
                                        <p:tgtEl>
                                          <p:spTgt spid="7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61" dur="80"/>
                                        <p:tgtEl>
                                          <p:spTgt spid="7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62" dur="80"/>
                                        <p:tgtEl>
                                          <p:spTgt spid="7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63" dur="80"/>
                                        <p:tgtEl>
                                          <p:spTgt spid="7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4" fill="hold">
                            <p:stCondLst>
                              <p:cond delay="1740"/>
                            </p:stCondLst>
                            <p:childTnLst>
                              <p:par>
                                <p:cTn id="336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67" dur="5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8" fill="hold">
                      <p:stCondLst>
                        <p:cond delay="indefinite"/>
                      </p:stCondLst>
                      <p:childTnLst>
                        <p:par>
                          <p:cTn id="3369" fill="hold">
                            <p:stCondLst>
                              <p:cond delay="0"/>
                            </p:stCondLst>
                            <p:childTnLst>
                              <p:par>
                                <p:cTn id="3370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371" dur="80"/>
                                        <p:tgtEl>
                                          <p:spTgt spid="7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72" dur="80"/>
                                        <p:tgtEl>
                                          <p:spTgt spid="7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73" dur="80"/>
                                        <p:tgtEl>
                                          <p:spTgt spid="7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374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7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75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376" dur="80"/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77" dur="80"/>
                                        <p:tgtEl>
                                          <p:spTgt spid="7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78" dur="80"/>
                                        <p:tgtEl>
                                          <p:spTgt spid="7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379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80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381" dur="5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3" fill="hold">
                            <p:stCondLst>
                              <p:cond delay="600"/>
                            </p:stCondLst>
                            <p:childTnLst>
                              <p:par>
                                <p:cTn id="338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86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7" fill="hold">
                            <p:stCondLst>
                              <p:cond delay="1100"/>
                            </p:stCondLst>
                            <p:childTnLst>
                              <p:par>
                                <p:cTn id="338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0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1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2" fill="hold">
                            <p:stCondLst>
                              <p:cond delay="1600"/>
                            </p:stCondLst>
                            <p:childTnLst>
                              <p:par>
                                <p:cTn id="339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5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6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7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8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1" dur="500" fill="hold"/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2" dur="500" fill="hold"/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3" dur="500" fill="hold"/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4" dur="500"/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5" fill="hold">
                            <p:stCondLst>
                              <p:cond delay="2100"/>
                            </p:stCondLst>
                            <p:childTnLst>
                              <p:par>
                                <p:cTn id="3406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8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9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0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1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2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3" fill="hold">
                      <p:stCondLst>
                        <p:cond delay="indefinite"/>
                      </p:stCondLst>
                      <p:childTnLst>
                        <p:par>
                          <p:cTn id="3414" fill="hold">
                            <p:stCondLst>
                              <p:cond delay="0"/>
                            </p:stCondLst>
                            <p:childTnLst>
                              <p:par>
                                <p:cTn id="3415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16" dur="1000"/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7" dur="1000"/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418" dur="1000"/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20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21" dur="1000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2" dur="1000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423" dur="10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25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26" dur="1000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7" dur="1000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428" dur="10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5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706" name=""/>
          <p:cNvSpPr/>
          <p:nvPr/>
        </p:nvSpPr>
        <p:spPr>
          <a:xfrm>
            <a:off x="533520" y="190512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Traditional Arabic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أَتَبْنُونَ بِكُلِّ </a:t>
            </a:r>
            <a:r>
              <a:rPr b="0" lang="ar-SA" sz="2800" spc="-1" strike="noStrike">
                <a:solidFill>
                  <a:srgbClr val="da42c8"/>
                </a:solidFill>
                <a:latin typeface="Arial"/>
                <a:cs typeface="Arial"/>
              </a:rPr>
              <a:t>رِيعٍ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آيَةً </a:t>
            </a:r>
            <a:r>
              <a:rPr b="0" lang="ar-SA" sz="2800" spc="-1" strike="noStrike">
                <a:solidFill>
                  <a:srgbClr val="da42c8"/>
                </a:solidFill>
                <a:latin typeface="Arial"/>
                <a:cs typeface="Arial"/>
              </a:rPr>
              <a:t>تَعْبَثُونَ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شعراء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128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7010280" y="3124080"/>
            <a:ext cx="11923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a42c8"/>
                </a:solidFill>
                <a:latin typeface="Arial"/>
                <a:cs typeface="Arial"/>
              </a:rPr>
              <a:t>رِيعٍ</a:t>
            </a:r>
            <a:r>
              <a:rPr b="0" lang="ar-LB" sz="2800" spc="-1" strike="noStrike">
                <a:solidFill>
                  <a:srgbClr val="da42c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7000920" y="5410080"/>
            <a:ext cx="13053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a42c8"/>
                </a:solidFill>
                <a:latin typeface="Arial"/>
                <a:cs typeface="Arial"/>
              </a:rPr>
              <a:t>تَعْبَثُونَ</a:t>
            </a:r>
            <a:r>
              <a:rPr b="0" lang="ar-LB" sz="2800" spc="-1" strike="noStrike">
                <a:solidFill>
                  <a:srgbClr val="da42c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1676520" y="3809880"/>
            <a:ext cx="48337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مكان المرتف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1676520" y="3124080"/>
            <a:ext cx="48067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ارض الخضرا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1676520" y="4495680"/>
            <a:ext cx="48099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كان فيه ما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3505320" y="5410080"/>
            <a:ext cx="1523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تلهو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5257800" y="5410080"/>
            <a:ext cx="12952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تخربو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1784520" y="5410080"/>
            <a:ext cx="1415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تضيّعو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6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717" name="" descr=""/>
          <p:cNvPicPr/>
          <p:nvPr/>
        </p:nvPicPr>
        <p:blipFill>
          <a:blip r:embed="rId3"/>
          <a:stretch/>
        </p:blipFill>
        <p:spPr>
          <a:xfrm>
            <a:off x="2971800" y="22096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30" dur="indefinite" restart="never" nodeType="tmRoot">
          <p:childTnLst>
            <p:seq>
              <p:cTn id="3431" dur="indefinite" nodeType="mainSeq">
                <p:childTnLst>
                  <p:par>
                    <p:cTn id="3432" fill="hold">
                      <p:stCondLst>
                        <p:cond delay="0"/>
                      </p:stCondLst>
                      <p:childTnLst>
                        <p:par>
                          <p:cTn id="3433" fill="hold">
                            <p:stCondLst>
                              <p:cond delay="0"/>
                            </p:stCondLst>
                            <p:childTnLst>
                              <p:par>
                                <p:cTn id="343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6" dur="10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7" dur="10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38" dur="10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40" dur="5956" fill="hold"/>
                                        <p:tgtEl>
                                          <p:spTgt spid="7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1" fill="hold">
                      <p:stCondLst>
                        <p:cond delay="indefinite"/>
                      </p:stCondLst>
                      <p:childTnLst>
                        <p:par>
                          <p:cTn id="3442" fill="hold">
                            <p:stCondLst>
                              <p:cond delay="0"/>
                            </p:stCondLst>
                            <p:childTnLst>
                              <p:par>
                                <p:cTn id="344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45" dur="5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6" fill="hold">
                            <p:stCondLst>
                              <p:cond delay="500"/>
                            </p:stCondLst>
                            <p:childTnLst>
                              <p:par>
                                <p:cTn id="344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49" dur="80"/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50" dur="80"/>
                                        <p:tgtEl>
                                          <p:spTgt spid="7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51" dur="80"/>
                                        <p:tgtEl>
                                          <p:spTgt spid="7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2" fill="hold">
                            <p:stCondLst>
                              <p:cond delay="1020"/>
                            </p:stCondLst>
                            <p:childTnLst>
                              <p:par>
                                <p:cTn id="345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4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4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457" dur="10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8" fill="hold">
                            <p:stCondLst>
                              <p:cond delay="2020"/>
                            </p:stCondLst>
                            <p:childTnLst>
                              <p:par>
                                <p:cTn id="345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1" dur="8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2" dur="8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3" dur="8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4" dur="8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7" fill="hold">
                      <p:stCondLst>
                        <p:cond delay="indefinite"/>
                      </p:stCondLst>
                      <p:childTnLst>
                        <p:par>
                          <p:cTn id="3468" fill="hold">
                            <p:stCondLst>
                              <p:cond delay="0"/>
                            </p:stCondLst>
                            <p:childTnLst>
                              <p:par>
                                <p:cTn id="3469" nodeType="clickEffect" fill="hold" presetClass="exit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3470" dur="1000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1" dur="1000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472" dur="10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4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75" dur="1000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6" dur="1000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477" dur="10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9" fill="hold">
                            <p:stCondLst>
                              <p:cond delay="1000"/>
                            </p:stCondLst>
                            <p:childTnLst>
                              <p:par>
                                <p:cTn id="348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2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3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4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5" dur="5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6" fill="hold">
                            <p:stCondLst>
                              <p:cond delay="1500"/>
                            </p:stCondLst>
                            <p:childTnLst>
                              <p:par>
                                <p:cTn id="34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9" dur="5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0" dur="5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9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3" dur="500" fill="hold"/>
                                        <p:tgtEl>
                                          <p:spTgt spid="7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4" dur="500" fill="hold"/>
                                        <p:tgtEl>
                                          <p:spTgt spid="7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5" fill="hold">
                            <p:stCondLst>
                              <p:cond delay="2000"/>
                            </p:stCondLst>
                            <p:childTnLst>
                              <p:par>
                                <p:cTn id="349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8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9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0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1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2" fill="hold">
                            <p:stCondLst>
                              <p:cond delay="2500"/>
                            </p:stCondLst>
                            <p:childTnLst>
                              <p:par>
                                <p:cTn id="350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5" dur="10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6" dur="10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7" dur="10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8" fill="hold">
                            <p:stCondLst>
                              <p:cond delay="3500"/>
                            </p:stCondLst>
                            <p:childTnLst>
                              <p:par>
                                <p:cTn id="350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1" dur="1000" fill="hold"/>
                                        <p:tgtEl>
                                          <p:spTgt spid="7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2" dur="1000" fill="hold"/>
                                        <p:tgtEl>
                                          <p:spTgt spid="7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3" dur="1000"/>
                                        <p:tgtEl>
                                          <p:spTgt spid="7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4" fill="hold">
                      <p:stCondLst>
                        <p:cond delay="indefinite"/>
                      </p:stCondLst>
                      <p:childTnLst>
                        <p:par>
                          <p:cTn id="3515" fill="hold">
                            <p:stCondLst>
                              <p:cond delay="0"/>
                            </p:stCondLst>
                            <p:childTnLst>
                              <p:par>
                                <p:cTn id="351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2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2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8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719" name=""/>
          <p:cNvSpPr/>
          <p:nvPr/>
        </p:nvSpPr>
        <p:spPr>
          <a:xfrm>
            <a:off x="838080" y="182880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تَنْحِتُونَ مِنَ الْجِبَالِ بُيُوتاً </a:t>
            </a:r>
            <a:r>
              <a:rPr b="0" lang="ar-SA" sz="2800" spc="-1" strike="noStrike">
                <a:solidFill>
                  <a:srgbClr val="da42c8"/>
                </a:solidFill>
                <a:latin typeface="Arial"/>
                <a:cs typeface="Arial"/>
              </a:rPr>
              <a:t>فَارِهِينَ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شعراء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149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6901920" y="3429000"/>
            <a:ext cx="13921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a42c8"/>
                </a:solidFill>
                <a:latin typeface="Arial"/>
                <a:cs typeface="Arial"/>
              </a:rPr>
              <a:t>فَارِهِينَ</a:t>
            </a:r>
            <a:r>
              <a:rPr b="0" lang="ar-LB" sz="2800" spc="-1" strike="noStrike">
                <a:solidFill>
                  <a:srgbClr val="da42c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3200400" y="3429000"/>
            <a:ext cx="15447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بطري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5029200" y="3429000"/>
            <a:ext cx="16794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فارغي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1371600" y="3429000"/>
            <a:ext cx="15825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عالي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5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726" name="" descr=""/>
          <p:cNvPicPr/>
          <p:nvPr/>
        </p:nvPicPr>
        <p:blipFill>
          <a:blip r:embed="rId3"/>
          <a:stretch/>
        </p:blipFill>
        <p:spPr>
          <a:xfrm>
            <a:off x="2438280" y="2286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24" dur="indefinite" restart="never" nodeType="tmRoot">
          <p:childTnLst>
            <p:seq>
              <p:cTn id="3525" dur="indefinite" nodeType="mainSeq">
                <p:childTnLst>
                  <p:par>
                    <p:cTn id="3526" fill="hold">
                      <p:stCondLst>
                        <p:cond delay="0"/>
                      </p:stCondLst>
                      <p:childTnLst>
                        <p:par>
                          <p:cTn id="3527" fill="hold">
                            <p:stCondLst>
                              <p:cond delay="0"/>
                            </p:stCondLst>
                            <p:childTnLst>
                              <p:par>
                                <p:cTn id="352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0" dur="1000" fill="hold"/>
                                        <p:tgtEl>
                                          <p:spTgt spid="7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1" dur="1000" fill="hold"/>
                                        <p:tgtEl>
                                          <p:spTgt spid="7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32" dur="1000"/>
                                        <p:tgtEl>
                                          <p:spTgt spid="7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34" dur="5956" fill="hold"/>
                                        <p:tgtEl>
                                          <p:spTgt spid="7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5" fill="hold">
                      <p:stCondLst>
                        <p:cond delay="indefinite"/>
                      </p:stCondLst>
                      <p:childTnLst>
                        <p:par>
                          <p:cTn id="3536" fill="hold">
                            <p:stCondLst>
                              <p:cond delay="0"/>
                            </p:stCondLst>
                            <p:childTnLst>
                              <p:par>
                                <p:cTn id="35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39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0" fill="hold">
                            <p:stCondLst>
                              <p:cond delay="500"/>
                            </p:stCondLst>
                            <p:childTnLst>
                              <p:par>
                                <p:cTn id="354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43" dur="80"/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44" dur="80"/>
                                        <p:tgtEl>
                                          <p:spTgt spid="7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45" dur="80"/>
                                        <p:tgtEl>
                                          <p:spTgt spid="7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6" fill="hold">
                            <p:stCondLst>
                              <p:cond delay="780"/>
                            </p:stCondLst>
                            <p:childTnLst>
                              <p:par>
                                <p:cTn id="354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9" dur="8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0" dur="8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1" dur="8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2" dur="8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5" fill="hold">
                            <p:stCondLst>
                              <p:cond delay="1780"/>
                            </p:stCondLst>
                            <p:childTnLst>
                              <p:par>
                                <p:cTn id="355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58" dur="5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9" fill="hold">
                            <p:stCondLst>
                              <p:cond delay="2280"/>
                            </p:stCondLst>
                            <p:childTnLst>
                              <p:par>
                                <p:cTn id="356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62" dur="500"/>
                                        <p:tgtEl>
                                          <p:spTgt spid="7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3" fill="hold">
                      <p:stCondLst>
                        <p:cond delay="indefinite"/>
                      </p:stCondLst>
                      <p:childTnLst>
                        <p:par>
                          <p:cTn id="3564" fill="hold">
                            <p:stCondLst>
                              <p:cond delay="0"/>
                            </p:stCondLst>
                            <p:childTnLst>
                              <p:par>
                                <p:cTn id="3565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566" dur="80"/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67" dur="80"/>
                                        <p:tgtEl>
                                          <p:spTgt spid="7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68" dur="80"/>
                                        <p:tgtEl>
                                          <p:spTgt spid="7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569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0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571" dur="80"/>
                                        <p:tgtEl>
                                          <p:spTgt spid="7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72" dur="80"/>
                                        <p:tgtEl>
                                          <p:spTgt spid="7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73" dur="80"/>
                                        <p:tgtEl>
                                          <p:spTgt spid="7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574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7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5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576" dur="80"/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77" dur="80"/>
                                        <p:tgtEl>
                                          <p:spTgt spid="7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78" dur="80"/>
                                        <p:tgtEl>
                                          <p:spTgt spid="7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579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7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728" name=""/>
          <p:cNvSpPr/>
          <p:nvPr/>
        </p:nvSpPr>
        <p:spPr>
          <a:xfrm>
            <a:off x="762120" y="1600200"/>
            <a:ext cx="7619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أَلَّا يَسْجُدُوا لِلَّهِ الَّذِي يُخْرِجُ </a:t>
            </a:r>
            <a:r>
              <a:rPr b="0" lang="ar-SA" sz="2800" spc="-1" strike="noStrike">
                <a:solidFill>
                  <a:srgbClr val="da42c8"/>
                </a:solidFill>
                <a:latin typeface="Arial"/>
                <a:cs typeface="Arial"/>
              </a:rPr>
              <a:t>الْخَبْءَ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فِي السَّمَاوَاتِ وَالْأَرْضِ وَيَعْلَمُ مَا تُخْفُونَ وَمَا تُعْلِنُونَ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نمل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25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6781680" y="3276720"/>
            <a:ext cx="13543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a42c8"/>
                </a:solidFill>
                <a:latin typeface="Arial"/>
                <a:cs typeface="Arial"/>
              </a:rPr>
              <a:t>الْخَبْءَ</a:t>
            </a:r>
            <a:r>
              <a:rPr b="0" lang="ar-LB" sz="2800" spc="-1" strike="noStrike">
                <a:solidFill>
                  <a:srgbClr val="da42c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2819520" y="3276720"/>
            <a:ext cx="16761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مستو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4800600" y="3276720"/>
            <a:ext cx="1735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أمطا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914400" y="327672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أسرا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914400" y="4622760"/>
            <a:ext cx="7396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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cs typeface="Arial"/>
              </a:rPr>
              <a:t>الخبء استعارة كأن الأشياء مخبأة مستورة تحت أطباق العدم ،فيخرجها الله تعالى من العدم إلى الوجود واحداً بعد الآخر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5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736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80" dur="indefinite" restart="never" nodeType="tmRoot">
          <p:childTnLst>
            <p:seq>
              <p:cTn id="3581" dur="indefinite" nodeType="mainSeq">
                <p:childTnLst>
                  <p:par>
                    <p:cTn id="3582" fill="hold">
                      <p:stCondLst>
                        <p:cond delay="0"/>
                      </p:stCondLst>
                      <p:childTnLst>
                        <p:par>
                          <p:cTn id="3583" fill="hold">
                            <p:stCondLst>
                              <p:cond delay="0"/>
                            </p:stCondLst>
                            <p:childTnLst>
                              <p:par>
                                <p:cTn id="358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6" dur="1000" fill="hold"/>
                                        <p:tgtEl>
                                          <p:spTgt spid="7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7" dur="1000" fill="hold"/>
                                        <p:tgtEl>
                                          <p:spTgt spid="7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88" dur="1000"/>
                                        <p:tgtEl>
                                          <p:spTgt spid="7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90" dur="13218" fill="hold"/>
                                        <p:tgtEl>
                                          <p:spTgt spid="7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1" fill="hold">
                      <p:stCondLst>
                        <p:cond delay="indefinite"/>
                      </p:stCondLst>
                      <p:childTnLst>
                        <p:par>
                          <p:cTn id="3592" fill="hold">
                            <p:stCondLst>
                              <p:cond delay="0"/>
                            </p:stCondLst>
                            <p:childTnLst>
                              <p:par>
                                <p:cTn id="359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5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5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597" dur="10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8" fill="hold">
                            <p:stCondLst>
                              <p:cond delay="1000"/>
                            </p:stCondLst>
                            <p:childTnLst>
                              <p:par>
                                <p:cTn id="359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01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2" fill="hold">
                            <p:stCondLst>
                              <p:cond delay="1500"/>
                            </p:stCondLst>
                            <p:childTnLst>
                              <p:par>
                                <p:cTn id="360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05" dur="5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60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9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0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1" fill="hold">
                      <p:stCondLst>
                        <p:cond delay="indefinite"/>
                      </p:stCondLst>
                      <p:childTnLst>
                        <p:par>
                          <p:cTn id="3612" fill="hold">
                            <p:stCondLst>
                              <p:cond delay="0"/>
                            </p:stCondLst>
                            <p:childTnLst>
                              <p:par>
                                <p:cTn id="3613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5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7" fill="hold">
                            <p:stCondLst>
                              <p:cond delay="0"/>
                            </p:stCondLst>
                            <p:childTnLst>
                              <p:par>
                                <p:cTn id="36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20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7" name="" descr=""/>
          <p:cNvPicPr/>
          <p:nvPr/>
        </p:nvPicPr>
        <p:blipFill>
          <a:blip r:embed="rId1"/>
          <a:stretch/>
        </p:blipFill>
        <p:spPr>
          <a:xfrm>
            <a:off x="-457200" y="-15228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738" name=""/>
          <p:cNvSpPr/>
          <p:nvPr/>
        </p:nvSpPr>
        <p:spPr>
          <a:xfrm>
            <a:off x="838080" y="1143000"/>
            <a:ext cx="72392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قِيلَ لَهَا ادْخُلِي </a:t>
            </a:r>
            <a:r>
              <a:rPr b="0" lang="ar-SA" sz="2800" spc="-1" strike="noStrike">
                <a:solidFill>
                  <a:srgbClr val="da42c8"/>
                </a:solidFill>
                <a:latin typeface="Arial"/>
                <a:cs typeface="Arial"/>
              </a:rPr>
              <a:t>الصَّرْحَ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فَلَمَّا رَأَتْهُ حَسِبَتْهُ </a:t>
            </a:r>
            <a:r>
              <a:rPr b="0" lang="ar-SA" sz="2800" spc="-1" strike="noStrike">
                <a:solidFill>
                  <a:srgbClr val="da42c8"/>
                </a:solidFill>
                <a:latin typeface="Arial"/>
                <a:cs typeface="Arial"/>
              </a:rPr>
              <a:t>لُجَّةً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وَكَشَفَتْ عَنْ سَاقَيْهَا قَالَ إِنَّهُ صَرْحٌ </a:t>
            </a:r>
            <a:r>
              <a:rPr b="0" lang="ar-SA" sz="2800" spc="-1" strike="noStrike">
                <a:solidFill>
                  <a:srgbClr val="da42c8"/>
                </a:solidFill>
                <a:latin typeface="Arial"/>
                <a:cs typeface="Arial"/>
              </a:rPr>
              <a:t>مُمَرَّدٌ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مِنْ </a:t>
            </a:r>
            <a:r>
              <a:rPr b="0" lang="ar-SA" sz="2800" spc="-1" strike="noStrike">
                <a:solidFill>
                  <a:srgbClr val="da42c8"/>
                </a:solidFill>
                <a:latin typeface="Arial"/>
                <a:cs typeface="Arial"/>
              </a:rPr>
              <a:t>قَوَارِيرَ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قَالَتْ رَبِّ إِنِّي ظَلَمْتُ نَفْسِي وَأَسْلَمْتُ مَعَ سُلَيْمَانَ لِلَّهِ رَبِّ الْعَالَمِينَ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نمل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44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7011000" y="5410080"/>
            <a:ext cx="12978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a42c8"/>
                </a:solidFill>
                <a:latin typeface="Arial"/>
                <a:cs typeface="Arial"/>
              </a:rPr>
              <a:t>قَوَارِير</a:t>
            </a:r>
            <a:r>
              <a:rPr b="0" lang="ar-LB" sz="2800" spc="-1" strike="noStrike">
                <a:solidFill>
                  <a:srgbClr val="da42c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7086600" y="3886200"/>
            <a:ext cx="11667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a42c8"/>
                </a:solidFill>
                <a:latin typeface="Arial"/>
                <a:cs typeface="Arial"/>
              </a:rPr>
              <a:t>لُجَّةً</a:t>
            </a:r>
            <a:r>
              <a:rPr b="0" lang="ar-LB" sz="2800" spc="-1" strike="noStrike">
                <a:solidFill>
                  <a:srgbClr val="da42c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7086600" y="4648320"/>
            <a:ext cx="114300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a42c8"/>
                </a:solidFill>
                <a:latin typeface="Arial"/>
                <a:cs typeface="Arial"/>
              </a:rPr>
              <a:t>مُمَرَّدٌ</a:t>
            </a:r>
            <a:r>
              <a:rPr b="0" lang="ar-LB" sz="2800" spc="-1" strike="noStrike">
                <a:solidFill>
                  <a:srgbClr val="da42c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7032960" y="3124080"/>
            <a:ext cx="13190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a42c8"/>
                </a:solidFill>
                <a:latin typeface="Arial"/>
                <a:cs typeface="Arial"/>
              </a:rPr>
              <a:t>الصَّرْحَ</a:t>
            </a:r>
            <a:r>
              <a:rPr b="0" lang="ar-LB" sz="2800" spc="-1" strike="noStrike">
                <a:solidFill>
                  <a:srgbClr val="da42c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2743200" y="3124080"/>
            <a:ext cx="19461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بناء العالي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4876920" y="3124080"/>
            <a:ext cx="199692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بناء في الجبل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762120" y="3124080"/>
            <a:ext cx="182880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بيت الكبي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4876920" y="3886200"/>
            <a:ext cx="20080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اء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2743200" y="3886200"/>
            <a:ext cx="19414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خيال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762120" y="3886200"/>
            <a:ext cx="18507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بلل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4876920" y="4648320"/>
            <a:ext cx="19810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مل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2743200" y="4648320"/>
            <a:ext cx="19620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سكو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762120" y="4648320"/>
            <a:ext cx="18288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ستوي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4876920" y="5410080"/>
            <a:ext cx="19954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أنابي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2743200" y="5410080"/>
            <a:ext cx="19033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زجاج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762120" y="5410080"/>
            <a:ext cx="17827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عوامي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6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757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21" dur="indefinite" restart="never" nodeType="tmRoot">
          <p:childTnLst>
            <p:seq>
              <p:cTn id="3622" dur="indefinite" nodeType="mainSeq">
                <p:childTnLst>
                  <p:par>
                    <p:cTn id="3623" fill="hold">
                      <p:stCondLst>
                        <p:cond delay="0"/>
                      </p:stCondLst>
                      <p:childTnLst>
                        <p:par>
                          <p:cTn id="3624" fill="hold">
                            <p:stCondLst>
                              <p:cond delay="0"/>
                            </p:stCondLst>
                            <p:childTnLst>
                              <p:par>
                                <p:cTn id="362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7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8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2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30" dur="32235" fill="hold"/>
                                        <p:tgtEl>
                                          <p:spTgt spid="7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1" fill="hold">
                      <p:stCondLst>
                        <p:cond delay="indefinite"/>
                      </p:stCondLst>
                      <p:childTnLst>
                        <p:par>
                          <p:cTn id="3632" fill="hold">
                            <p:stCondLst>
                              <p:cond delay="0"/>
                            </p:stCondLst>
                            <p:childTnLst>
                              <p:par>
                                <p:cTn id="363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8" dur="10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64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6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7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8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49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0" fill="hold">
                            <p:stCondLst>
                              <p:cond delay="1500"/>
                            </p:stCondLst>
                            <p:childTnLst>
                              <p:par>
                                <p:cTn id="365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3" dur="10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4" dur="10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55" dur="10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6" fill="hold">
                            <p:stCondLst>
                              <p:cond delay="2500"/>
                            </p:stCondLst>
                            <p:childTnLst>
                              <p:par>
                                <p:cTn id="365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9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0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1" fill="hold">
                      <p:stCondLst>
                        <p:cond delay="indefinite"/>
                      </p:stCondLst>
                      <p:childTnLst>
                        <p:par>
                          <p:cTn id="3662" fill="hold">
                            <p:stCondLst>
                              <p:cond delay="0"/>
                            </p:stCondLst>
                            <p:childTnLst>
                              <p:par>
                                <p:cTn id="366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7" fill="hold">
                            <p:stCondLst>
                              <p:cond delay="0"/>
                            </p:stCondLst>
                            <p:childTnLst>
                              <p:par>
                                <p:cTn id="366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70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1" fill="hold">
                            <p:stCondLst>
                              <p:cond delay="500"/>
                            </p:stCondLst>
                            <p:childTnLst>
                              <p:par>
                                <p:cTn id="367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4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5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6" fill="hold">
                            <p:stCondLst>
                              <p:cond delay="1000"/>
                            </p:stCondLst>
                            <p:childTnLst>
                              <p:par>
                                <p:cTn id="3677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2" dur="10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7" fill="hold">
                            <p:stCondLst>
                              <p:cond delay="2000"/>
                            </p:stCondLst>
                            <p:childTnLst>
                              <p:par>
                                <p:cTn id="368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90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1" fill="hold">
                      <p:stCondLst>
                        <p:cond delay="indefinite"/>
                      </p:stCondLst>
                      <p:childTnLst>
                        <p:par>
                          <p:cTn id="3692" fill="hold">
                            <p:stCondLst>
                              <p:cond delay="0"/>
                            </p:stCondLst>
                            <p:childTnLst>
                              <p:par>
                                <p:cTn id="36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9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7" fill="hold">
                            <p:stCondLst>
                              <p:cond delay="0"/>
                            </p:stCondLst>
                            <p:childTnLst>
                              <p:par>
                                <p:cTn id="369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0" dur="8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01" dur="8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2" dur="8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3" dur="8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6" fill="hold">
                            <p:stCondLst>
                              <p:cond delay="1000"/>
                            </p:stCondLst>
                            <p:childTnLst>
                              <p:par>
                                <p:cTn id="370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9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0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1" fill="hold">
                            <p:stCondLst>
                              <p:cond delay="1500"/>
                            </p:stCondLst>
                            <p:childTnLst>
                              <p:par>
                                <p:cTn id="371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4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5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6" fill="hold">
                            <p:stCondLst>
                              <p:cond delay="2000"/>
                            </p:stCondLst>
                            <p:childTnLst>
                              <p:par>
                                <p:cTn id="371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9" dur="8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20" dur="8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1" dur="8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2" dur="8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5" fill="hold">
                      <p:stCondLst>
                        <p:cond delay="indefinite"/>
                      </p:stCondLst>
                      <p:childTnLst>
                        <p:par>
                          <p:cTn id="3726" fill="hold">
                            <p:stCondLst>
                              <p:cond delay="0"/>
                            </p:stCondLst>
                            <p:childTnLst>
                              <p:par>
                                <p:cTn id="372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2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1" fill="hold">
                            <p:stCondLst>
                              <p:cond delay="0"/>
                            </p:stCondLst>
                            <p:childTnLst>
                              <p:par>
                                <p:cTn id="37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34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5" fill="hold">
                            <p:stCondLst>
                              <p:cond delay="500"/>
                            </p:stCondLst>
                            <p:childTnLst>
                              <p:par>
                                <p:cTn id="3736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8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9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0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1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2" fill="hold">
                            <p:stCondLst>
                              <p:cond delay="1000"/>
                            </p:stCondLst>
                            <p:childTnLst>
                              <p:par>
                                <p:cTn id="37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5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6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7" fill="hold">
                            <p:stCondLst>
                              <p:cond delay="1500"/>
                            </p:stCondLst>
                            <p:childTnLst>
                              <p:par>
                                <p:cTn id="374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50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1" fill="hold">
                      <p:stCondLst>
                        <p:cond delay="indefinite"/>
                      </p:stCondLst>
                      <p:childTnLst>
                        <p:par>
                          <p:cTn id="3752" fill="hold">
                            <p:stCondLst>
                              <p:cond delay="0"/>
                            </p:stCondLst>
                            <p:childTnLst>
                              <p:par>
                                <p:cTn id="375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8" name="" descr=""/>
          <p:cNvPicPr/>
          <p:nvPr/>
        </p:nvPicPr>
        <p:blipFill>
          <a:blip r:embed="rId1"/>
          <a:stretch/>
        </p:blipFill>
        <p:spPr>
          <a:xfrm>
            <a:off x="-304920" y="-4572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759" name=""/>
          <p:cNvSpPr/>
          <p:nvPr/>
        </p:nvSpPr>
        <p:spPr>
          <a:xfrm>
            <a:off x="609480" y="914400"/>
            <a:ext cx="7620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Traditional Arabic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مَا كَانَ لِنَبِيٍّ أَنْ يَكُونَ لَهُ أَسْرَى حَتَّى</a:t>
            </a:r>
            <a:r>
              <a:rPr b="0" lang="ar-SA" sz="2800" spc="-1" strike="noStrike">
                <a:solidFill>
                  <a:srgbClr val="e303d8"/>
                </a:solidFill>
                <a:latin typeface="Arial"/>
                <a:ea typeface="Arial"/>
              </a:rPr>
              <a:t> يُثْخِنَ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فِي الْأَرْضِ تُرِيدُونَ </a:t>
            </a: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عَرَضَ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الدُّنْيَا وَاللَّهُ يُرِيدُ الْآخِرَةَ وَاللَّهُ عَزِيزٌ حَكِيمٌ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لأنفال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67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7086600" y="2057400"/>
            <a:ext cx="11700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يُثْخِنَ</a:t>
            </a:r>
            <a:r>
              <a:rPr b="0" lang="ar-LB" sz="2800" spc="-1" strike="noStrike">
                <a:solidFill>
                  <a:srgbClr val="e303d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3048120" y="2057400"/>
            <a:ext cx="16761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غل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5105520" y="2057400"/>
            <a:ext cx="16333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حك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990720" y="2057400"/>
            <a:ext cx="16761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حار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7010280" y="3352680"/>
            <a:ext cx="1217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عَرَضَ</a:t>
            </a:r>
            <a:r>
              <a:rPr b="0" lang="ar-LB" sz="2800" spc="-1" strike="noStrike">
                <a:solidFill>
                  <a:srgbClr val="e303d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2362320" y="3962520"/>
            <a:ext cx="35812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ا ينخدع به الانسا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2362320" y="3352680"/>
            <a:ext cx="35812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ا يطرأ ويزول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2362320" y="4572000"/>
            <a:ext cx="35812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ا نراه على غير حقيقت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990720" y="2590920"/>
            <a:ext cx="7331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0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000" spc="-1" strike="noStrike">
                <a:solidFill>
                  <a:srgbClr val="010199"/>
                </a:solidFill>
                <a:latin typeface="Arial"/>
                <a:cs typeface="Arial"/>
              </a:rPr>
              <a:t>يثخن : المراد استقرار دينه بين الناس كأنه شيء غليظ فتجمد وثبت بعد أن كان رقيقاً سائلاً مخشي الزوال بالسيلان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1219320" y="5181480"/>
            <a:ext cx="694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0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000" spc="-1" strike="noStrike">
                <a:solidFill>
                  <a:srgbClr val="010199"/>
                </a:solidFill>
                <a:latin typeface="Arial"/>
                <a:cs typeface="Arial"/>
              </a:rPr>
              <a:t>عرض : أي ما يطرأ على الشيء ويسرع فيه الزوال ، ولذلك سمي به متاع الدنيا لدثوره وزواله عما قليل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1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772" name="" descr=""/>
          <p:cNvPicPr/>
          <p:nvPr/>
        </p:nvPicPr>
        <p:blipFill>
          <a:blip r:embed="rId3"/>
          <a:stretch/>
        </p:blipFill>
        <p:spPr>
          <a:xfrm>
            <a:off x="685800" y="1600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57" dur="indefinite" restart="never" nodeType="tmRoot">
          <p:childTnLst>
            <p:seq>
              <p:cTn id="3758" dur="indefinite" nodeType="mainSeq">
                <p:childTnLst>
                  <p:par>
                    <p:cTn id="3759" fill="hold">
                      <p:stCondLst>
                        <p:cond delay="0"/>
                      </p:stCondLst>
                      <p:childTnLst>
                        <p:par>
                          <p:cTn id="3760" fill="hold">
                            <p:stCondLst>
                              <p:cond delay="0"/>
                            </p:stCondLst>
                            <p:childTnLst>
                              <p:par>
                                <p:cTn id="376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3" dur="10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4" dur="10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65" dur="10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767" dur="23929" fill="hold"/>
                                        <p:tgtEl>
                                          <p:spTgt spid="7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8" fill="hold">
                      <p:stCondLst>
                        <p:cond delay="indefinite"/>
                      </p:stCondLst>
                      <p:childTnLst>
                        <p:par>
                          <p:cTn id="3769" fill="hold">
                            <p:stCondLst>
                              <p:cond delay="0"/>
                            </p:stCondLst>
                            <p:childTnLst>
                              <p:par>
                                <p:cTn id="377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7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7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774" dur="10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5" fill="hold">
                            <p:stCondLst>
                              <p:cond delay="1000"/>
                            </p:stCondLst>
                            <p:childTnLst>
                              <p:par>
                                <p:cTn id="377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8" dur="10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9" dur="10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80" dur="10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8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84" dur="5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5" fill="hold">
                            <p:stCondLst>
                              <p:cond delay="2500"/>
                            </p:stCondLst>
                            <p:childTnLst>
                              <p:par>
                                <p:cTn id="37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88" dur="5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9" fill="hold">
                      <p:stCondLst>
                        <p:cond delay="indefinite"/>
                      </p:stCondLst>
                      <p:childTnLst>
                        <p:par>
                          <p:cTn id="3790" fill="hold">
                            <p:stCondLst>
                              <p:cond delay="0"/>
                            </p:stCondLst>
                            <p:childTnLst>
                              <p:par>
                                <p:cTn id="3791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3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5" fill="hold">
                            <p:stCondLst>
                              <p:cond delay="0"/>
                            </p:stCondLst>
                            <p:childTnLst>
                              <p:par>
                                <p:cTn id="37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8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9" fill="hold">
                      <p:stCondLst>
                        <p:cond delay="indefinite"/>
                      </p:stCondLst>
                      <p:childTnLst>
                        <p:par>
                          <p:cTn id="3800" fill="hold">
                            <p:stCondLst>
                              <p:cond delay="0"/>
                            </p:stCondLst>
                            <p:childTnLst>
                              <p:par>
                                <p:cTn id="380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3" dur="5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4" dur="5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5" dur="5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06" dur="5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7" fill="hold">
                            <p:stCondLst>
                              <p:cond delay="500"/>
                            </p:stCondLst>
                            <p:childTnLst>
                              <p:par>
                                <p:cTn id="3808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8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8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812" dur="10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3" fill="hold">
                            <p:stCondLst>
                              <p:cond delay="1500"/>
                            </p:stCondLst>
                            <p:childTnLst>
                              <p:par>
                                <p:cTn id="381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6" dur="5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7" dur="5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81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1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2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3" fill="hold">
                      <p:stCondLst>
                        <p:cond delay="indefinite"/>
                      </p:stCondLst>
                      <p:childTnLst>
                        <p:par>
                          <p:cTn id="3824" fill="hold">
                            <p:stCondLst>
                              <p:cond delay="0"/>
                            </p:stCondLst>
                            <p:childTnLst>
                              <p:par>
                                <p:cTn id="38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2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9" fill="hold">
                            <p:stCondLst>
                              <p:cond delay="0"/>
                            </p:stCondLst>
                            <p:childTnLst>
                              <p:par>
                                <p:cTn id="38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2" dur="5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3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774" name=""/>
          <p:cNvSpPr/>
          <p:nvPr/>
        </p:nvSpPr>
        <p:spPr>
          <a:xfrm>
            <a:off x="457200" y="1523880"/>
            <a:ext cx="7924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Traditional Arabic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كَيْفَ وَإِنْ يَظْهَرُوا عَلَيْكُمْ لا </a:t>
            </a: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يَرْقُبُوا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فِيكُمْ </a:t>
            </a: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إِلّاً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لا </a:t>
            </a: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ذِمَّةً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يُرْضُونَكُمْ بِأَفْوَاهِهِمْ وَتَأْبَى قُلُوبُهُمْ وَأَكْثَرُهُمْ فَاسِقُونَ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توب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8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6934320" y="3200400"/>
            <a:ext cx="12888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يَرْقُبُوا</a:t>
            </a:r>
            <a:r>
              <a:rPr b="0" lang="ar-LB" sz="2800" spc="-1" strike="noStrike">
                <a:solidFill>
                  <a:srgbClr val="e303d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6934320" y="4038480"/>
            <a:ext cx="1303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إِلّاً</a:t>
            </a:r>
            <a:r>
              <a:rPr b="0" lang="ar-LB" sz="2800" spc="-1" strike="noStrike">
                <a:solidFill>
                  <a:srgbClr val="e303d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6934320" y="4876920"/>
            <a:ext cx="1317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ذِمَّةً</a:t>
            </a:r>
            <a:r>
              <a:rPr b="0" lang="ar-LB" sz="2800" spc="-1" strike="noStrike">
                <a:solidFill>
                  <a:srgbClr val="e303d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4952880" y="3200400"/>
            <a:ext cx="16066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حفظو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2971800" y="3200400"/>
            <a:ext cx="16765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شاهدو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914400" y="3200400"/>
            <a:ext cx="17524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غدرو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2971800" y="4038480"/>
            <a:ext cx="16765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قراب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4952880" y="403848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جيرة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914400" y="4038480"/>
            <a:ext cx="17524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صحب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4952880" y="487692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عهد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2971800" y="4876920"/>
            <a:ext cx="16765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قول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914400" y="4876920"/>
            <a:ext cx="17524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ضمير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88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789" name="" descr=""/>
          <p:cNvPicPr/>
          <p:nvPr/>
        </p:nvPicPr>
        <p:blipFill>
          <a:blip r:embed="rId3"/>
          <a:stretch/>
        </p:blipFill>
        <p:spPr>
          <a:xfrm>
            <a:off x="2743200" y="23623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33" dur="indefinite" restart="never" nodeType="tmRoot">
          <p:childTnLst>
            <p:seq>
              <p:cTn id="3834" dur="indefinite" nodeType="mainSeq">
                <p:childTnLst>
                  <p:par>
                    <p:cTn id="3835" fill="hold">
                      <p:stCondLst>
                        <p:cond delay="0"/>
                      </p:stCondLst>
                      <p:childTnLst>
                        <p:par>
                          <p:cTn id="3836" fill="hold">
                            <p:stCondLst>
                              <p:cond delay="0"/>
                            </p:stCondLst>
                            <p:childTnLst>
                              <p:par>
                                <p:cTn id="383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9" dur="1000" fill="hold"/>
                                        <p:tgtEl>
                                          <p:spTgt spid="7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0" dur="1000" fill="hold"/>
                                        <p:tgtEl>
                                          <p:spTgt spid="7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41" dur="1000"/>
                                        <p:tgtEl>
                                          <p:spTgt spid="7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43" dur="19018" fill="hold"/>
                                        <p:tgtEl>
                                          <p:spTgt spid="7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4" fill="hold">
                      <p:stCondLst>
                        <p:cond delay="indefinite"/>
                      </p:stCondLst>
                      <p:childTnLst>
                        <p:par>
                          <p:cTn id="3845" fill="hold">
                            <p:stCondLst>
                              <p:cond delay="0"/>
                            </p:stCondLst>
                            <p:childTnLst>
                              <p:par>
                                <p:cTn id="384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8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8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850" dur="10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85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4" dur="10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5" dur="10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56" dur="10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7" fill="hold">
                            <p:stCondLst>
                              <p:cond delay="2000"/>
                            </p:stCondLst>
                            <p:childTnLst>
                              <p:par>
                                <p:cTn id="385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0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1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2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3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4" fill="hold">
                            <p:stCondLst>
                              <p:cond delay="2500"/>
                            </p:stCondLst>
                            <p:childTnLst>
                              <p:par>
                                <p:cTn id="386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7" dur="5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8" dur="5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9" fill="hold">
                      <p:stCondLst>
                        <p:cond delay="indefinite"/>
                      </p:stCondLst>
                      <p:childTnLst>
                        <p:par>
                          <p:cTn id="3870" fill="hold">
                            <p:stCondLst>
                              <p:cond delay="0"/>
                            </p:stCondLst>
                            <p:childTnLst>
                              <p:par>
                                <p:cTn id="387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7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5" fill="hold">
                            <p:stCondLst>
                              <p:cond delay="0"/>
                            </p:stCondLst>
                            <p:childTnLst>
                              <p:par>
                                <p:cTn id="387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8" dur="10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9" dur="10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80" dur="10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1" fill="hold">
                            <p:stCondLst>
                              <p:cond delay="1000"/>
                            </p:stCondLst>
                            <p:childTnLst>
                              <p:par>
                                <p:cTn id="388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4" dur="5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5" dur="5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6" fill="hold">
                            <p:stCondLst>
                              <p:cond delay="1500"/>
                            </p:stCondLst>
                            <p:childTnLst>
                              <p:par>
                                <p:cTn id="388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89" dur="5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0" fill="hold">
                            <p:stCondLst>
                              <p:cond delay="2000"/>
                            </p:stCondLst>
                            <p:childTnLst>
                              <p:par>
                                <p:cTn id="389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893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4" fill="hold">
                      <p:stCondLst>
                        <p:cond delay="indefinite"/>
                      </p:stCondLst>
                      <p:childTnLst>
                        <p:par>
                          <p:cTn id="3895" fill="hold">
                            <p:stCondLst>
                              <p:cond delay="0"/>
                            </p:stCondLst>
                            <p:childTnLst>
                              <p:par>
                                <p:cTn id="389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0" fill="hold">
                            <p:stCondLst>
                              <p:cond delay="0"/>
                            </p:stCondLst>
                            <p:childTnLst>
                              <p:par>
                                <p:cTn id="390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03" dur="5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4" fill="hold">
                            <p:stCondLst>
                              <p:cond delay="500"/>
                            </p:stCondLst>
                            <p:childTnLst>
                              <p:par>
                                <p:cTn id="39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7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8" fill="hold">
                            <p:stCondLst>
                              <p:cond delay="1000"/>
                            </p:stCondLst>
                            <p:childTnLst>
                              <p:par>
                                <p:cTn id="390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9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9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913" dur="10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4" fill="hold">
                            <p:stCondLst>
                              <p:cond delay="2000"/>
                            </p:stCondLst>
                            <p:childTnLst>
                              <p:par>
                                <p:cTn id="39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7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8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9" fill="hold">
                      <p:stCondLst>
                        <p:cond delay="indefinite"/>
                      </p:stCondLst>
                      <p:childTnLst>
                        <p:par>
                          <p:cTn id="3920" fill="hold">
                            <p:stCondLst>
                              <p:cond delay="0"/>
                            </p:stCondLst>
                            <p:childTnLst>
                              <p:par>
                                <p:cTn id="39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0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791" name=""/>
          <p:cNvSpPr/>
          <p:nvPr/>
        </p:nvSpPr>
        <p:spPr>
          <a:xfrm>
            <a:off x="762120" y="1523880"/>
            <a:ext cx="7467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Traditional Arabic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أَمْ حَسِبْتُمْ أَنْ تُتْرَكُوا وَلَمَّا يَعْلَمِ اللَّهُ الَّذِينَ جَاهَدُوا مِنْكُمْ وَلَمْ يَتَّخِذُوا مِنْ دُونِ اللَّهِ وَلا رَسُولِهِ وَلا الْمُؤْمِنِينَ </a:t>
            </a: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وَلِيجَةً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وَاللَّهُ خَبِيرٌ بِمَا تَعْمَلُونَ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Traditional Arabic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توب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16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6934320" y="3657600"/>
            <a:ext cx="13316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وَلِيجَةً</a:t>
            </a:r>
            <a:r>
              <a:rPr b="0" lang="ar-LB" sz="2800" spc="-1" strike="noStrike">
                <a:solidFill>
                  <a:srgbClr val="e303d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4952880" y="3657600"/>
            <a:ext cx="1695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دخلا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2895480" y="3657600"/>
            <a:ext cx="17528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حجة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838080" y="3657600"/>
            <a:ext cx="17528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طريق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>
            <a:off x="1003680" y="4800600"/>
            <a:ext cx="711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cs typeface="Arial"/>
              </a:rPr>
              <a:t>وليجة :أي  ما يتخذه الانسان معتمداً عليه وليس من أهل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8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799" name="" descr=""/>
          <p:cNvPicPr/>
          <p:nvPr/>
        </p:nvPicPr>
        <p:blipFill>
          <a:blip r:embed="rId3"/>
          <a:stretch/>
        </p:blipFill>
        <p:spPr>
          <a:xfrm>
            <a:off x="2819520" y="25146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25" dur="indefinite" restart="never" nodeType="tmRoot">
          <p:childTnLst>
            <p:seq>
              <p:cTn id="3926" dur="indefinite" nodeType="mainSeq">
                <p:childTnLst>
                  <p:par>
                    <p:cTn id="3927" fill="hold">
                      <p:stCondLst>
                        <p:cond delay="0"/>
                      </p:stCondLst>
                      <p:childTnLst>
                        <p:par>
                          <p:cTn id="3928" fill="hold">
                            <p:stCondLst>
                              <p:cond delay="0"/>
                            </p:stCondLst>
                            <p:childTnLst>
                              <p:par>
                                <p:cTn id="392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1" dur="1000" fill="hold"/>
                                        <p:tgtEl>
                                          <p:spTgt spid="7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2" dur="1000" fill="hold"/>
                                        <p:tgtEl>
                                          <p:spTgt spid="7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33" dur="1000"/>
                                        <p:tgtEl>
                                          <p:spTgt spid="7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35" dur="23876" fill="hold"/>
                                        <p:tgtEl>
                                          <p:spTgt spid="7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6" fill="hold">
                      <p:stCondLst>
                        <p:cond delay="indefinite"/>
                      </p:stCondLst>
                      <p:childTnLst>
                        <p:par>
                          <p:cTn id="3937" fill="hold">
                            <p:stCondLst>
                              <p:cond delay="0"/>
                            </p:stCondLst>
                            <p:childTnLst>
                              <p:par>
                                <p:cTn id="393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0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1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2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43" dur="5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4" fill="hold">
                            <p:stCondLst>
                              <p:cond delay="500"/>
                            </p:stCondLst>
                            <p:childTnLst>
                              <p:par>
                                <p:cTn id="394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7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8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9" fill="hold">
                            <p:stCondLst>
                              <p:cond delay="1000"/>
                            </p:stCondLst>
                            <p:childTnLst>
                              <p:par>
                                <p:cTn id="395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52" dur="5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3" fill="hold">
                            <p:stCondLst>
                              <p:cond delay="1500"/>
                            </p:stCondLst>
                            <p:childTnLst>
                              <p:par>
                                <p:cTn id="395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6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7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8" fill="hold">
                      <p:stCondLst>
                        <p:cond delay="indefinite"/>
                      </p:stCondLst>
                      <p:childTnLst>
                        <p:par>
                          <p:cTn id="3959" fill="hold">
                            <p:stCondLst>
                              <p:cond delay="0"/>
                            </p:stCondLst>
                            <p:childTnLst>
                              <p:par>
                                <p:cTn id="396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961" dur="500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2" dur="500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6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6" fill="hold">
                            <p:stCondLst>
                              <p:cond delay="500"/>
                            </p:stCondLst>
                            <p:childTnLst>
                              <p:par>
                                <p:cTn id="39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69" dur="5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0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801" name=""/>
          <p:cNvSpPr/>
          <p:nvPr/>
        </p:nvSpPr>
        <p:spPr>
          <a:xfrm>
            <a:off x="685800" y="1295280"/>
            <a:ext cx="7772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وَقَالَتِ الْيَهُودُ عُزَيْرٌ ابْنُ اللَّهِ وَقَالَتِ النَّصَارَى الْمَسِيحُ ابْنُ اللَّهِ ذَلِكَ قَوْلُهُمْ بِأَفْوَاهِهِمْ </a:t>
            </a: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يُضَاهِئُونَ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قَوْلَ الَّذِينَ كَفَرُوا مِنْ قَبْلُ قَاتَلَهُمُ اللَّهُ أَنَّى </a:t>
            </a: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يُؤْفَكُونَ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توب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30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6766920" y="3429000"/>
            <a:ext cx="16315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يُضَاهِئُونَ</a:t>
            </a:r>
            <a:r>
              <a:rPr b="0" lang="ar-LB" sz="2800" spc="-1" strike="noStrike">
                <a:solidFill>
                  <a:srgbClr val="e303d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6858000" y="4343400"/>
            <a:ext cx="143676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يُؤْفَكُونَ</a:t>
            </a:r>
            <a:r>
              <a:rPr b="0" lang="ar-LB" sz="2800" spc="-1" strike="noStrike">
                <a:solidFill>
                  <a:srgbClr val="e303d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2666880" y="3429000"/>
            <a:ext cx="18288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شابهو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4800600" y="3429000"/>
            <a:ext cx="17524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أخذو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685800" y="3429000"/>
            <a:ext cx="17524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صدقو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4800600" y="4343400"/>
            <a:ext cx="17524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ُصرفو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2666880" y="4343400"/>
            <a:ext cx="18288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نتهو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685800" y="4343400"/>
            <a:ext cx="17524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خافو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11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812" name="" descr=""/>
          <p:cNvPicPr/>
          <p:nvPr/>
        </p:nvPicPr>
        <p:blipFill>
          <a:blip r:embed="rId3"/>
          <a:stretch/>
        </p:blipFill>
        <p:spPr>
          <a:xfrm>
            <a:off x="2590920" y="22096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70" dur="indefinite" restart="never" nodeType="tmRoot">
          <p:childTnLst>
            <p:seq>
              <p:cTn id="3971" dur="indefinite" nodeType="mainSeq">
                <p:childTnLst>
                  <p:par>
                    <p:cTn id="3972" fill="hold">
                      <p:stCondLst>
                        <p:cond delay="0"/>
                      </p:stCondLst>
                      <p:childTnLst>
                        <p:par>
                          <p:cTn id="3973" fill="hold">
                            <p:stCondLst>
                              <p:cond delay="0"/>
                            </p:stCondLst>
                            <p:childTnLst>
                              <p:par>
                                <p:cTn id="397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76" dur="500"/>
                                        <p:tgtEl>
                                          <p:spTgt spid="8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78" dur="27429" fill="hold"/>
                                        <p:tgtEl>
                                          <p:spTgt spid="8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9" fill="hold">
                      <p:stCondLst>
                        <p:cond delay="indefinite"/>
                      </p:stCondLst>
                      <p:childTnLst>
                        <p:par>
                          <p:cTn id="3980" fill="hold">
                            <p:stCondLst>
                              <p:cond delay="0"/>
                            </p:stCondLst>
                            <p:childTnLst>
                              <p:par>
                                <p:cTn id="398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9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9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985" dur="10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6" fill="hold">
                            <p:stCondLst>
                              <p:cond delay="1000"/>
                            </p:stCondLst>
                            <p:childTnLst>
                              <p:par>
                                <p:cTn id="398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989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0" fill="hold">
                            <p:stCondLst>
                              <p:cond delay="1500"/>
                            </p:stCondLst>
                            <p:childTnLst>
                              <p:par>
                                <p:cTn id="399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93" dur="5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4" fill="hold">
                            <p:stCondLst>
                              <p:cond delay="2000"/>
                            </p:stCondLst>
                            <p:childTnLst>
                              <p:par>
                                <p:cTn id="399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7" dur="5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8" dur="5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9" fill="hold">
                      <p:stCondLst>
                        <p:cond delay="indefinite"/>
                      </p:stCondLst>
                      <p:childTnLst>
                        <p:par>
                          <p:cTn id="4000" fill="hold">
                            <p:stCondLst>
                              <p:cond delay="0"/>
                            </p:stCondLst>
                            <p:childTnLst>
                              <p:par>
                                <p:cTn id="400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0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5" fill="hold">
                            <p:stCondLst>
                              <p:cond delay="0"/>
                            </p:stCondLst>
                            <p:childTnLst>
                              <p:par>
                                <p:cTn id="400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8" dur="5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9" dur="5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0" fill="hold">
                            <p:stCondLst>
                              <p:cond delay="500"/>
                            </p:stCondLst>
                            <p:childTnLst>
                              <p:par>
                                <p:cTn id="401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13" dur="5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4" fill="hold">
                            <p:stCondLst>
                              <p:cond delay="1000"/>
                            </p:stCondLst>
                            <p:childTnLst>
                              <p:par>
                                <p:cTn id="40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17" dur="5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8" fill="hold">
                            <p:stCondLst>
                              <p:cond delay="1500"/>
                            </p:stCondLst>
                            <p:childTnLst>
                              <p:par>
                                <p:cTn id="401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1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2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3" fill="hold">
                      <p:stCondLst>
                        <p:cond delay="indefinite"/>
                      </p:stCondLst>
                      <p:childTnLst>
                        <p:par>
                          <p:cTn id="4024" fill="hold">
                            <p:stCondLst>
                              <p:cond delay="0"/>
                            </p:stCondLst>
                            <p:childTnLst>
                              <p:par>
                                <p:cTn id="40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2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762120" y="1600200"/>
            <a:ext cx="7467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الَّذِينَ يَجْتَنِبُونَ كَبَائِرَ الْأِثْمِ وَالْفَوَاحِشَ إِلَّا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اللَّمَمَ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إِنَّ رَبَّكَ وَاسِعُ الْمَغْفِرَةِ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...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ا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لنجم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32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858000" y="3657600"/>
            <a:ext cx="12510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اللَّمَمَ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800600" y="3657600"/>
            <a:ext cx="16970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معاصي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743200" y="3657600"/>
            <a:ext cx="17017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صغائ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838080" y="365760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كبائ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2458080" y="4876920"/>
            <a:ext cx="503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cs typeface="Arial"/>
              </a:rPr>
              <a:t>المقصود من اللمم  المعاصي الصغيرة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0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9" dur="10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1" dur="14078" fill="hold"/>
                                        <p:tgtEl>
                                          <p:spTgt spid="1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500"/>
                            </p:stCondLst>
                            <p:childTnLst>
                              <p:par>
                                <p:cTn id="25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0" dur="8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1" dur="8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2" dur="8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820"/>
                            </p:stCondLst>
                            <p:childTnLst>
                              <p:par>
                                <p:cTn id="26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1320"/>
                            </p:stCondLst>
                            <p:childTnLst>
                              <p:par>
                                <p:cTn id="268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3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814" name=""/>
          <p:cNvSpPr/>
          <p:nvPr/>
        </p:nvSpPr>
        <p:spPr>
          <a:xfrm>
            <a:off x="685800" y="1219320"/>
            <a:ext cx="7543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Traditional Arabic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إِنَّمَا </a:t>
            </a: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النَّسِيءُ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زِيَادَةٌ فِي الْكُفْرِ يُضَلُّ بِهِ الَّذِينَ كَفَرُوا يُحِلُّونَهُ عَاماً وَيُحَرِّمُونَهُ عَاماً </a:t>
            </a: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لِيُوَاطِئُوا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عِدَّةَ مَا حَرَّمَ اللَّهُ فَيُحِلُّوا مَا حَرَّمَ اللَّهُ زُيِّنَ لَهُمْ سُوءُ أَعْمَالِهِمْ وَاللَّهُ لا يَهْدِي الْقَوْمَ الْكَافِرِينَ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توب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37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6781680" y="3124080"/>
            <a:ext cx="139716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النَّسِيءُ</a:t>
            </a:r>
            <a:r>
              <a:rPr b="0" lang="ar-LB" sz="2800" spc="-1" strike="noStrike">
                <a:solidFill>
                  <a:srgbClr val="e303d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6858000" y="4876920"/>
            <a:ext cx="137484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لِيُوَاطِئُوا</a:t>
            </a:r>
            <a:r>
              <a:rPr b="0" lang="ar-LB" sz="2800" spc="-1" strike="noStrike">
                <a:solidFill>
                  <a:srgbClr val="e303d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4952880" y="3124080"/>
            <a:ext cx="15242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تأخي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2895480" y="3124080"/>
            <a:ext cx="16765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نسيا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914400" y="312408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كذ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2971800" y="4876920"/>
            <a:ext cx="16826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ليوافقو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5029200" y="4876920"/>
            <a:ext cx="1533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ليقدمو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914400" y="4876920"/>
            <a:ext cx="17575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ليحرِّمو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914400" y="3886200"/>
            <a:ext cx="7331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cs typeface="Arial"/>
              </a:rPr>
              <a:t>المقصود أنهم كانوا يأخرون حرمة شهر حرام إلى بعض الشهور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Arial"/>
                <a:cs typeface="Arial"/>
              </a:rPr>
              <a:t>غير المحرمة التي بعده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5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826" name="" descr=""/>
          <p:cNvPicPr/>
          <p:nvPr/>
        </p:nvPicPr>
        <p:blipFill>
          <a:blip r:embed="rId3"/>
          <a:stretch/>
        </p:blipFill>
        <p:spPr>
          <a:xfrm>
            <a:off x="1676520" y="25146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29" dur="indefinite" restart="never" nodeType="tmRoot">
          <p:childTnLst>
            <p:seq>
              <p:cTn id="4030" dur="indefinite" nodeType="mainSeq">
                <p:childTnLst>
                  <p:par>
                    <p:cTn id="4031" fill="hold">
                      <p:stCondLst>
                        <p:cond delay="0"/>
                      </p:stCondLst>
                      <p:childTnLst>
                        <p:par>
                          <p:cTn id="4032" fill="hold">
                            <p:stCondLst>
                              <p:cond delay="0"/>
                            </p:stCondLst>
                            <p:childTnLst>
                              <p:par>
                                <p:cTn id="403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5" dur="500" fill="hold"/>
                                        <p:tgtEl>
                                          <p:spTgt spid="8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6" dur="500" fill="hold"/>
                                        <p:tgtEl>
                                          <p:spTgt spid="8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3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38" dur="36154" fill="hold"/>
                                        <p:tgtEl>
                                          <p:spTgt spid="8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9" fill="hold">
                      <p:stCondLst>
                        <p:cond delay="indefinite"/>
                      </p:stCondLst>
                      <p:childTnLst>
                        <p:par>
                          <p:cTn id="4040" fill="hold">
                            <p:stCondLst>
                              <p:cond delay="0"/>
                            </p:stCondLst>
                            <p:childTnLst>
                              <p:par>
                                <p:cTn id="404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0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0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045" dur="10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6" fill="hold">
                            <p:stCondLst>
                              <p:cond delay="1000"/>
                            </p:stCondLst>
                            <p:childTnLst>
                              <p:par>
                                <p:cTn id="404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049" dur="5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0" fill="hold">
                            <p:stCondLst>
                              <p:cond delay="1500"/>
                            </p:stCondLst>
                            <p:childTnLst>
                              <p:par>
                                <p:cTn id="405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53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4" fill="hold">
                            <p:stCondLst>
                              <p:cond delay="2000"/>
                            </p:stCondLst>
                            <p:childTnLst>
                              <p:par>
                                <p:cTn id="405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57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8" fill="hold">
                      <p:stCondLst>
                        <p:cond delay="indefinite"/>
                      </p:stCondLst>
                      <p:childTnLst>
                        <p:par>
                          <p:cTn id="4059" fill="hold">
                            <p:stCondLst>
                              <p:cond delay="0"/>
                            </p:stCondLst>
                            <p:childTnLst>
                              <p:par>
                                <p:cTn id="406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6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4" fill="hold">
                            <p:stCondLst>
                              <p:cond delay="0"/>
                            </p:stCondLst>
                            <p:childTnLst>
                              <p:par>
                                <p:cTn id="40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67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8" fill="hold">
                            <p:stCondLst>
                              <p:cond delay="500"/>
                            </p:stCondLst>
                            <p:childTnLst>
                              <p:par>
                                <p:cTn id="406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0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0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073" dur="10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4" fill="hold">
                            <p:stCondLst>
                              <p:cond delay="1500"/>
                            </p:stCondLst>
                            <p:childTnLst>
                              <p:par>
                                <p:cTn id="407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77" dur="5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8" fill="hold">
                            <p:stCondLst>
                              <p:cond delay="2000"/>
                            </p:stCondLst>
                            <p:childTnLst>
                              <p:par>
                                <p:cTn id="407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1" dur="5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2" dur="5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3" fill="hold">
                            <p:stCondLst>
                              <p:cond delay="2500"/>
                            </p:stCondLst>
                            <p:childTnLst>
                              <p:par>
                                <p:cTn id="408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6" dur="10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7" dur="10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88" dur="10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9" fill="hold">
                      <p:stCondLst>
                        <p:cond delay="indefinite"/>
                      </p:stCondLst>
                      <p:childTnLst>
                        <p:par>
                          <p:cTn id="4090" fill="hold">
                            <p:stCondLst>
                              <p:cond delay="0"/>
                            </p:stCondLst>
                            <p:childTnLst>
                              <p:par>
                                <p:cTn id="409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7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828" name=""/>
          <p:cNvSpPr/>
          <p:nvPr/>
        </p:nvSpPr>
        <p:spPr>
          <a:xfrm>
            <a:off x="685800" y="1752480"/>
            <a:ext cx="77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Traditional Arabic"/>
              </a:rPr>
              <a:t> </a:t>
            </a: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انْفِرُوا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خِفَافاً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وَثِقَالاً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وَجَاهِدُوا بِأَمْوَالِكُمْ وَأَنْفُسِكُمْ فِي سَبِيلِ اللَّهِ ذَلِكُمْ خَيْرٌ لَكُمْ إِنْ كُنْتُمْ تَعْلَمُونَ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توب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41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6858000" y="3200400"/>
            <a:ext cx="12733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انْفِرُوا</a:t>
            </a:r>
            <a:r>
              <a:rPr b="0" lang="ar-LB" sz="2800" spc="-1" strike="noStrike">
                <a:solidFill>
                  <a:srgbClr val="e303d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6858000" y="4038480"/>
            <a:ext cx="12952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خِفَافاً</a:t>
            </a:r>
            <a:r>
              <a:rPr b="0" lang="ar-LB" sz="2800" spc="-1" strike="noStrike">
                <a:solidFill>
                  <a:srgbClr val="e303d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6858000" y="4876920"/>
            <a:ext cx="12952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وَثِقَالاً</a:t>
            </a:r>
            <a:r>
              <a:rPr b="0" lang="ar-LB" sz="2800" spc="-1" strike="noStrike">
                <a:solidFill>
                  <a:srgbClr val="e303d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990720" y="320040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خرجو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4952880" y="3200400"/>
            <a:ext cx="15890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هربو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2971800" y="3200400"/>
            <a:ext cx="1523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تقدمو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4952880" y="403848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شبان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2971800" y="4038480"/>
            <a:ext cx="152388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جموعا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990720" y="403848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نساء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2971800" y="4876920"/>
            <a:ext cx="1523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شيوخ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4952880" y="487692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رض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990720" y="487692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أولاد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2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843" name="" descr=""/>
          <p:cNvPicPr/>
          <p:nvPr/>
        </p:nvPicPr>
        <p:blipFill>
          <a:blip r:embed="rId3"/>
          <a:stretch/>
        </p:blipFill>
        <p:spPr>
          <a:xfrm>
            <a:off x="1828800" y="2286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95" dur="indefinite" restart="never" nodeType="tmRoot">
          <p:childTnLst>
            <p:seq>
              <p:cTn id="4096" dur="indefinite" nodeType="mainSeq">
                <p:childTnLst>
                  <p:par>
                    <p:cTn id="4097" fill="hold">
                      <p:stCondLst>
                        <p:cond delay="0"/>
                      </p:stCondLst>
                      <p:childTnLst>
                        <p:par>
                          <p:cTn id="4098" fill="hold">
                            <p:stCondLst>
                              <p:cond delay="0"/>
                            </p:stCondLst>
                            <p:childTnLst>
                              <p:par>
                                <p:cTn id="409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1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1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103" dur="1000"/>
                                        <p:tgtEl>
                                          <p:spTgt spid="8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05" dur="17868" fill="hold"/>
                                        <p:tgtEl>
                                          <p:spTgt spid="8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6" fill="hold">
                      <p:stCondLst>
                        <p:cond delay="indefinite"/>
                      </p:stCondLst>
                      <p:childTnLst>
                        <p:par>
                          <p:cTn id="4107" fill="hold">
                            <p:stCondLst>
                              <p:cond delay="0"/>
                            </p:stCondLst>
                            <p:childTnLst>
                              <p:par>
                                <p:cTn id="410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0" dur="10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1" dur="10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12" dur="10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3" fill="hold">
                            <p:stCondLst>
                              <p:cond delay="1000"/>
                            </p:stCondLst>
                            <p:childTnLst>
                              <p:par>
                                <p:cTn id="411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16" dur="5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7" fill="hold">
                            <p:stCondLst>
                              <p:cond delay="1500"/>
                            </p:stCondLst>
                            <p:childTnLst>
                              <p:par>
                                <p:cTn id="411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0" dur="5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1" dur="5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2" fill="hold">
                            <p:stCondLst>
                              <p:cond delay="2000"/>
                            </p:stCondLst>
                            <p:childTnLst>
                              <p:par>
                                <p:cTn id="412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25" dur="5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6" fill="hold">
                      <p:stCondLst>
                        <p:cond delay="indefinite"/>
                      </p:stCondLst>
                      <p:childTnLst>
                        <p:par>
                          <p:cTn id="4127" fill="hold">
                            <p:stCondLst>
                              <p:cond delay="0"/>
                            </p:stCondLst>
                            <p:childTnLst>
                              <p:par>
                                <p:cTn id="412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3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2" fill="hold">
                            <p:stCondLst>
                              <p:cond delay="0"/>
                            </p:stCondLst>
                            <p:childTnLst>
                              <p:par>
                                <p:cTn id="413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5" dur="10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6" dur="10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37" dur="1000"/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8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41" dur="5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414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45" dur="5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6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9" dur="5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0" dur="5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1" fill="hold">
                      <p:stCondLst>
                        <p:cond delay="indefinite"/>
                      </p:stCondLst>
                      <p:childTnLst>
                        <p:par>
                          <p:cTn id="4152" fill="hold">
                            <p:stCondLst>
                              <p:cond delay="0"/>
                            </p:stCondLst>
                            <p:childTnLst>
                              <p:par>
                                <p:cTn id="415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7" fill="hold">
                            <p:stCondLst>
                              <p:cond delay="0"/>
                            </p:stCondLst>
                            <p:childTnLst>
                              <p:par>
                                <p:cTn id="41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60" dur="500"/>
                                        <p:tgtEl>
                                          <p:spTgt spid="8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1" fill="hold">
                            <p:stCondLst>
                              <p:cond delay="500"/>
                            </p:stCondLst>
                            <p:childTnLst>
                              <p:par>
                                <p:cTn id="416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64" dur="5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5" fill="hold">
                            <p:stCondLst>
                              <p:cond delay="1000"/>
                            </p:stCondLst>
                            <p:childTnLst>
                              <p:par>
                                <p:cTn id="416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8" dur="50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9" dur="50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0" dur="50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71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2" fill="hold">
                            <p:stCondLst>
                              <p:cond delay="1500"/>
                            </p:stCondLst>
                            <p:childTnLst>
                              <p:par>
                                <p:cTn id="417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175" dur="500"/>
                                        <p:tgtEl>
                                          <p:spTgt spid="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6" fill="hold">
                      <p:stCondLst>
                        <p:cond delay="indefinite"/>
                      </p:stCondLst>
                      <p:childTnLst>
                        <p:par>
                          <p:cTn id="4177" fill="hold">
                            <p:stCondLst>
                              <p:cond delay="0"/>
                            </p:stCondLst>
                            <p:childTnLst>
                              <p:par>
                                <p:cTn id="417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8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4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845" name=""/>
          <p:cNvSpPr/>
          <p:nvPr/>
        </p:nvSpPr>
        <p:spPr>
          <a:xfrm>
            <a:off x="609480" y="1371600"/>
            <a:ext cx="7772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لَوْ كَانَ </a:t>
            </a: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عَرَضاً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قَرِيباً وَسَفَراً </a:t>
            </a: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قَاصِداً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لَاتَّبَعُوكَ وَلَكِنْ بَعُدَتْ عَلَيْهِمُ </a:t>
            </a: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الشُّقَّةُ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سَيَحْلِفُونَ بِاللَّهِ لَوِ اسْتَطَعْنَا لَخَرَجْنَا مَعَكُمْ يُهْلِكُونَ أَنْفُسَهُمْ وَاللَّهُ يَعْلَمُ إِنَّهُمْ لَكَاذِبُونَ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توب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42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6477120" y="3276720"/>
            <a:ext cx="16668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عَرَضاً</a:t>
            </a:r>
            <a:r>
              <a:rPr b="0" lang="ar-LB" sz="2800" spc="-1" strike="noStrike">
                <a:solidFill>
                  <a:srgbClr val="e303d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6477120" y="4191120"/>
            <a:ext cx="16714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قَاصِداً</a:t>
            </a:r>
            <a:r>
              <a:rPr b="0" lang="ar-LB" sz="2800" spc="-1" strike="noStrike">
                <a:solidFill>
                  <a:srgbClr val="e303d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6477120" y="5105520"/>
            <a:ext cx="16383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الشُّقَّةُ</a:t>
            </a:r>
            <a:r>
              <a:rPr b="0" lang="ar-LB" sz="2800" spc="-1" strike="noStrike">
                <a:solidFill>
                  <a:srgbClr val="e303d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4572000" y="3276720"/>
            <a:ext cx="16970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طلب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2743200" y="3276720"/>
            <a:ext cx="1523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ال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838080" y="327672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كافأة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4572000" y="4191120"/>
            <a:ext cx="16765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سهل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2743200" y="4191120"/>
            <a:ext cx="1523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رغوب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838080" y="419112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ربح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4572000" y="5105520"/>
            <a:ext cx="16765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قدر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838080" y="510552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مساف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2743200" y="5105520"/>
            <a:ext cx="1523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مكا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59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860" name="" descr=""/>
          <p:cNvPicPr/>
          <p:nvPr/>
        </p:nvPicPr>
        <p:blipFill>
          <a:blip r:embed="rId3"/>
          <a:stretch/>
        </p:blipFill>
        <p:spPr>
          <a:xfrm>
            <a:off x="1828800" y="2286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82" dur="indefinite" restart="never" nodeType="tmRoot">
          <p:childTnLst>
            <p:seq>
              <p:cTn id="4183" dur="indefinite" nodeType="mainSeq">
                <p:childTnLst>
                  <p:par>
                    <p:cTn id="4184" fill="hold">
                      <p:stCondLst>
                        <p:cond delay="0"/>
                      </p:stCondLst>
                      <p:childTnLst>
                        <p:par>
                          <p:cTn id="4185" fill="hold">
                            <p:stCondLst>
                              <p:cond delay="0"/>
                            </p:stCondLst>
                            <p:childTnLst>
                              <p:par>
                                <p:cTn id="418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8" dur="1000" fill="hold"/>
                                        <p:tgtEl>
                                          <p:spTgt spid="8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9" dur="1000" fill="hold"/>
                                        <p:tgtEl>
                                          <p:spTgt spid="8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90" dur="1000"/>
                                        <p:tgtEl>
                                          <p:spTgt spid="8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92" dur="28526" fill="hold"/>
                                        <p:tgtEl>
                                          <p:spTgt spid="8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3" fill="hold">
                      <p:stCondLst>
                        <p:cond delay="indefinite"/>
                      </p:stCondLst>
                      <p:childTnLst>
                        <p:par>
                          <p:cTn id="4194" fill="hold">
                            <p:stCondLst>
                              <p:cond delay="0"/>
                            </p:stCondLst>
                            <p:childTnLst>
                              <p:par>
                                <p:cTn id="41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97" dur="5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8" fill="hold">
                            <p:stCondLst>
                              <p:cond delay="500"/>
                            </p:stCondLst>
                            <p:childTnLst>
                              <p:par>
                                <p:cTn id="41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01" dur="500"/>
                                        <p:tgtEl>
                                          <p:spTgt spid="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2" fill="hold">
                            <p:stCondLst>
                              <p:cond delay="1000"/>
                            </p:stCondLst>
                            <p:childTnLst>
                              <p:par>
                                <p:cTn id="420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5" dur="50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6" dur="50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7" fill="hold">
                            <p:stCondLst>
                              <p:cond delay="1500"/>
                            </p:stCondLst>
                            <p:childTnLst>
                              <p:par>
                                <p:cTn id="420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10" dur="500"/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1" fill="hold">
                      <p:stCondLst>
                        <p:cond delay="indefinite"/>
                      </p:stCondLst>
                      <p:childTnLst>
                        <p:par>
                          <p:cTn id="4212" fill="hold">
                            <p:stCondLst>
                              <p:cond delay="0"/>
                            </p:stCondLst>
                            <p:childTnLst>
                              <p:par>
                                <p:cTn id="421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7" fill="hold">
                            <p:stCondLst>
                              <p:cond delay="0"/>
                            </p:stCondLst>
                            <p:childTnLst>
                              <p:par>
                                <p:cTn id="4218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2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2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222" dur="10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3" fill="hold">
                            <p:stCondLst>
                              <p:cond delay="1000"/>
                            </p:stCondLst>
                            <p:childTnLst>
                              <p:par>
                                <p:cTn id="422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26" dur="5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7" fill="hold">
                            <p:stCondLst>
                              <p:cond delay="1500"/>
                            </p:stCondLst>
                            <p:childTnLst>
                              <p:par>
                                <p:cTn id="422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0" dur="5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1" dur="5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2" fill="hold">
                            <p:stCondLst>
                              <p:cond delay="2000"/>
                            </p:stCondLst>
                            <p:childTnLst>
                              <p:par>
                                <p:cTn id="42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3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6" fill="hold">
                      <p:stCondLst>
                        <p:cond delay="indefinite"/>
                      </p:stCondLst>
                      <p:childTnLst>
                        <p:par>
                          <p:cTn id="4237" fill="hold">
                            <p:stCondLst>
                              <p:cond delay="0"/>
                            </p:stCondLst>
                            <p:childTnLst>
                              <p:par>
                                <p:cTn id="423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4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2" fill="hold">
                            <p:stCondLst>
                              <p:cond delay="0"/>
                            </p:stCondLst>
                            <p:childTnLst>
                              <p:par>
                                <p:cTn id="424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245" dur="5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6" fill="hold">
                            <p:stCondLst>
                              <p:cond delay="500"/>
                            </p:stCondLst>
                            <p:childTnLst>
                              <p:par>
                                <p:cTn id="4247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24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2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2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2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3" fill="hold">
                            <p:stCondLst>
                              <p:cond delay="1500"/>
                            </p:stCondLst>
                            <p:childTnLst>
                              <p:par>
                                <p:cTn id="425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256" dur="500"/>
                                        <p:tgtEl>
                                          <p:spTgt spid="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7" fill="hold">
                            <p:stCondLst>
                              <p:cond delay="2000"/>
                            </p:stCondLst>
                            <p:childTnLst>
                              <p:par>
                                <p:cTn id="425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60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1" fill="hold">
                      <p:stCondLst>
                        <p:cond delay="indefinite"/>
                      </p:stCondLst>
                      <p:childTnLst>
                        <p:par>
                          <p:cTn id="4262" fill="hold">
                            <p:stCondLst>
                              <p:cond delay="0"/>
                            </p:stCondLst>
                            <p:childTnLst>
                              <p:par>
                                <p:cTn id="426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1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862" name=""/>
          <p:cNvSpPr/>
          <p:nvPr/>
        </p:nvSpPr>
        <p:spPr>
          <a:xfrm>
            <a:off x="457200" y="167652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Traditional Arabic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لَوْ يَجِدُونَ مَلْجَأً أَوْ مَغَارَاتٍ أَوْ </a:t>
            </a: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مُدَّخَلاً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لَوَلَّوْا إِلَيْهِ وَهُمْ </a:t>
            </a: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يَجْمَحُونَ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توب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57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7086600" y="3352680"/>
            <a:ext cx="12952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مُدَّخَلاً</a:t>
            </a:r>
            <a:r>
              <a:rPr b="0" lang="ar-LB" sz="2800" spc="-1" strike="noStrike">
                <a:solidFill>
                  <a:srgbClr val="e303d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7086600" y="4343400"/>
            <a:ext cx="133668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يَجْمَحُونَ</a:t>
            </a:r>
            <a:r>
              <a:rPr b="0" lang="ar-LB" sz="2800" spc="-1" strike="noStrike">
                <a:solidFill>
                  <a:srgbClr val="e303d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4800600" y="3352680"/>
            <a:ext cx="220968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سلكاً في الارض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2666880" y="3352680"/>
            <a:ext cx="20574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كاناً خفي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685800" y="3352680"/>
            <a:ext cx="19051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جبلاً عالي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4876920" y="4343400"/>
            <a:ext cx="21412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سرعو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2666880" y="4343400"/>
            <a:ext cx="21513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ختبئو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685800" y="4343400"/>
            <a:ext cx="18763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مشو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72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873" name="" descr=""/>
          <p:cNvPicPr/>
          <p:nvPr/>
        </p:nvPicPr>
        <p:blipFill>
          <a:blip r:embed="rId3"/>
          <a:stretch/>
        </p:blipFill>
        <p:spPr>
          <a:xfrm>
            <a:off x="2971800" y="2286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67" dur="indefinite" restart="never" nodeType="tmRoot">
          <p:childTnLst>
            <p:seq>
              <p:cTn id="4268" dur="indefinite" nodeType="mainSeq">
                <p:childTnLst>
                  <p:par>
                    <p:cTn id="4269" fill="hold">
                      <p:stCondLst>
                        <p:cond delay="0"/>
                      </p:stCondLst>
                      <p:childTnLst>
                        <p:par>
                          <p:cTn id="4270" fill="hold">
                            <p:stCondLst>
                              <p:cond delay="0"/>
                            </p:stCondLst>
                            <p:childTnLst>
                              <p:par>
                                <p:cTn id="427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2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2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275" dur="1000"/>
                                        <p:tgtEl>
                                          <p:spTgt spid="8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77" dur="11599" fill="hold"/>
                                        <p:tgtEl>
                                          <p:spTgt spid="8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8" fill="hold">
                      <p:stCondLst>
                        <p:cond delay="indefinite"/>
                      </p:stCondLst>
                      <p:childTnLst>
                        <p:par>
                          <p:cTn id="4279" fill="hold">
                            <p:stCondLst>
                              <p:cond delay="0"/>
                            </p:stCondLst>
                            <p:childTnLst>
                              <p:par>
                                <p:cTn id="42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82" dur="5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3" fill="hold">
                            <p:stCondLst>
                              <p:cond delay="500"/>
                            </p:stCondLst>
                            <p:childTnLst>
                              <p:par>
                                <p:cTn id="428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6" dur="5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7" dur="5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8" fill="hold">
                            <p:stCondLst>
                              <p:cond delay="1000"/>
                            </p:stCondLst>
                            <p:childTnLst>
                              <p:par>
                                <p:cTn id="428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91" dur="5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2" fill="hold">
                            <p:stCondLst>
                              <p:cond delay="1500"/>
                            </p:stCondLst>
                            <p:childTnLst>
                              <p:par>
                                <p:cTn id="429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5" dur="5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6" dur="5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7" fill="hold">
                      <p:stCondLst>
                        <p:cond delay="indefinite"/>
                      </p:stCondLst>
                      <p:childTnLst>
                        <p:par>
                          <p:cTn id="4298" fill="hold">
                            <p:stCondLst>
                              <p:cond delay="0"/>
                            </p:stCondLst>
                            <p:childTnLst>
                              <p:par>
                                <p:cTn id="429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0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3" fill="hold">
                            <p:stCondLst>
                              <p:cond delay="0"/>
                            </p:stCondLst>
                            <p:childTnLst>
                              <p:par>
                                <p:cTn id="430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06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7" fill="hold">
                            <p:stCondLst>
                              <p:cond delay="500"/>
                            </p:stCondLst>
                            <p:childTnLst>
                              <p:par>
                                <p:cTn id="430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10" dur="500"/>
                                        <p:tgtEl>
                                          <p:spTgt spid="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1" fill="hold">
                            <p:stCondLst>
                              <p:cond delay="1000"/>
                            </p:stCondLst>
                            <p:childTnLst>
                              <p:par>
                                <p:cTn id="431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4" dur="5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5" dur="5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6" fill="hold">
                            <p:stCondLst>
                              <p:cond delay="1500"/>
                            </p:stCondLst>
                            <p:childTnLst>
                              <p:par>
                                <p:cTn id="431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9" dur="10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0" dur="10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21" dur="10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2" fill="hold">
                      <p:stCondLst>
                        <p:cond delay="indefinite"/>
                      </p:stCondLst>
                      <p:childTnLst>
                        <p:par>
                          <p:cTn id="4323" fill="hold">
                            <p:stCondLst>
                              <p:cond delay="0"/>
                            </p:stCondLst>
                            <p:childTnLst>
                              <p:par>
                                <p:cTn id="432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2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4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875" name=""/>
          <p:cNvSpPr/>
          <p:nvPr/>
        </p:nvSpPr>
        <p:spPr>
          <a:xfrm>
            <a:off x="533520" y="1600200"/>
            <a:ext cx="7848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Traditional Arabic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مِنْهُمْ مَنْ </a:t>
            </a: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يَلْمِزُكَ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فِي الصَّدَقَاتِ فَإِنْ أُعْطُوا مِنْهَا رَضُوا وَإِنْ لَمْ يُعْطَوْا مِنْهَا إِذَا هُمْ يَسْخَطُونَ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توب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58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6781680" y="3352680"/>
            <a:ext cx="13827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يَلْمِزُكَ</a:t>
            </a:r>
            <a:r>
              <a:rPr b="0" lang="ar-LB" sz="2800" spc="-1" strike="noStrike">
                <a:solidFill>
                  <a:srgbClr val="e303d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2895480" y="3352680"/>
            <a:ext cx="15717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عيب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4800600" y="3352680"/>
            <a:ext cx="16765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غمز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990720" y="3352680"/>
            <a:ext cx="15415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طالب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838080" y="4648320"/>
            <a:ext cx="7543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010199"/>
              </a:buClr>
              <a:buFont typeface="Wingdings 2" charset="2"/>
              <a:buChar char="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000" spc="-1" strike="noStrike">
                <a:solidFill>
                  <a:srgbClr val="010199"/>
                </a:solidFill>
                <a:latin typeface="Arial"/>
                <a:cs typeface="Arial"/>
              </a:rPr>
              <a:t>يلمزك : المقصود أنهم  كانوا يعيبونك في قسمتها إذا لم تعطهم منها لعدم إستحقاقهم ذلك أو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000" spc="-1" strike="noStrike">
                <a:solidFill>
                  <a:srgbClr val="010199"/>
                </a:solidFill>
                <a:latin typeface="Arial"/>
                <a:cs typeface="Arial"/>
              </a:rPr>
              <a:t>لأسباب أخرى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2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883" name="" descr=""/>
          <p:cNvPicPr/>
          <p:nvPr/>
        </p:nvPicPr>
        <p:blipFill>
          <a:blip r:embed="rId3"/>
          <a:stretch/>
        </p:blipFill>
        <p:spPr>
          <a:xfrm>
            <a:off x="1523880" y="22096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28" dur="indefinite" restart="never" nodeType="tmRoot">
          <p:childTnLst>
            <p:seq>
              <p:cTn id="4329" dur="indefinite" nodeType="mainSeq">
                <p:childTnLst>
                  <p:par>
                    <p:cTn id="4330" fill="hold">
                      <p:stCondLst>
                        <p:cond delay="0"/>
                      </p:stCondLst>
                      <p:childTnLst>
                        <p:par>
                          <p:cTn id="4331" fill="hold">
                            <p:stCondLst>
                              <p:cond delay="0"/>
                            </p:stCondLst>
                            <p:childTnLst>
                              <p:par>
                                <p:cTn id="433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4" dur="500" fill="hold"/>
                                        <p:tgtEl>
                                          <p:spTgt spid="8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5" dur="500" fill="hold"/>
                                        <p:tgtEl>
                                          <p:spTgt spid="8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3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337" dur="16562" fill="hold"/>
                                        <p:tgtEl>
                                          <p:spTgt spid="8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8" fill="hold">
                      <p:stCondLst>
                        <p:cond delay="indefinite"/>
                      </p:stCondLst>
                      <p:childTnLst>
                        <p:par>
                          <p:cTn id="4339" fill="hold">
                            <p:stCondLst>
                              <p:cond delay="0"/>
                            </p:stCondLst>
                            <p:childTnLst>
                              <p:par>
                                <p:cTn id="434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3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3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344" dur="10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34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348" dur="500"/>
                                        <p:tgtEl>
                                          <p:spTgt spid="8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9" fill="hold">
                            <p:stCondLst>
                              <p:cond delay="1500"/>
                            </p:stCondLst>
                            <p:childTnLst>
                              <p:par>
                                <p:cTn id="435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52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3" fill="hold">
                            <p:stCondLst>
                              <p:cond delay="2000"/>
                            </p:stCondLst>
                            <p:childTnLst>
                              <p:par>
                                <p:cTn id="435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6" dur="5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7" dur="5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8" fill="hold">
                      <p:stCondLst>
                        <p:cond delay="indefinite"/>
                      </p:stCondLst>
                      <p:childTnLst>
                        <p:par>
                          <p:cTn id="4359" fill="hold">
                            <p:stCondLst>
                              <p:cond delay="0"/>
                            </p:stCondLst>
                            <p:childTnLst>
                              <p:par>
                                <p:cTn id="436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6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4" fill="hold">
                            <p:stCondLst>
                              <p:cond delay="0"/>
                            </p:stCondLst>
                            <p:childTnLst>
                              <p:par>
                                <p:cTn id="43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67" dur="500"/>
                                        <p:tgtEl>
                                          <p:spTgt spid="8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4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885" name=""/>
          <p:cNvSpPr/>
          <p:nvPr/>
        </p:nvSpPr>
        <p:spPr>
          <a:xfrm>
            <a:off x="685800" y="914400"/>
            <a:ext cx="7696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Traditional Arabic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إِنَّمَا الصَّدَقَاتُ لِلْفُقَرَاءِ وَالْمَسَاكِينِ وَالْعَامِلِينَ عَلَيْهَا </a:t>
            </a: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وَالْمُؤَلَّفَةِ قُلُوبُهُمْ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وَفِي الرِّقَابِ </a:t>
            </a: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وَالْغَارِمِينَ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وَفِي سَبِيلِ اللَّهِ وَابْنِ السَّبِيلِ فَرِيضَةً مِنَ اللَّهِ وَاللَّهُ عَلِيمٌ حَكِيمٌ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توب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60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5928840" y="2514600"/>
            <a:ext cx="26920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وَالْمُؤَلَّفَةِ قُلُوبُهُمْ</a:t>
            </a:r>
            <a:r>
              <a:rPr b="0" lang="ar-LB" sz="2800" spc="-1" strike="noStrike">
                <a:solidFill>
                  <a:srgbClr val="e303d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439560" y="3200400"/>
            <a:ext cx="61074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قوم وحدوا الله ولم تدخل المعرفة قلوبه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1219320" y="2514600"/>
            <a:ext cx="452268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قوم يخشون الله قلوبهم رقيق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1219320" y="3886200"/>
            <a:ext cx="45529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قوم ليس في قلوبهم إيما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6324480" y="4572000"/>
            <a:ext cx="20224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وَالْغَارِمِينَ</a:t>
            </a:r>
            <a:r>
              <a:rPr b="0" lang="ar-LB" sz="2800" spc="-1" strike="noStrike">
                <a:solidFill>
                  <a:srgbClr val="e303d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4263120" y="4572000"/>
            <a:ext cx="1649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مهاجري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1219320" y="4572000"/>
            <a:ext cx="134604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مديوني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2819520" y="4572000"/>
            <a:ext cx="13651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فقرا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1143000" y="5257800"/>
            <a:ext cx="678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cs typeface="Arial"/>
              </a:rPr>
              <a:t>المقصود بالغارمين الناس الذين تراكمت عليهم الديون  من أعمال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Arial"/>
                <a:cs typeface="Arial"/>
              </a:rPr>
              <a:t>قاموا بها في غير معصية الله تعالى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6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897" name="" descr=""/>
          <p:cNvPicPr/>
          <p:nvPr/>
        </p:nvPicPr>
        <p:blipFill>
          <a:blip r:embed="rId3"/>
          <a:stretch/>
        </p:blipFill>
        <p:spPr>
          <a:xfrm>
            <a:off x="2133720" y="2133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68" dur="indefinite" restart="never" nodeType="tmRoot">
          <p:childTnLst>
            <p:seq>
              <p:cTn id="4369" dur="indefinite" nodeType="mainSeq">
                <p:childTnLst>
                  <p:par>
                    <p:cTn id="4370" fill="hold">
                      <p:stCondLst>
                        <p:cond delay="0"/>
                      </p:stCondLst>
                      <p:childTnLst>
                        <p:par>
                          <p:cTn id="4371" fill="hold">
                            <p:stCondLst>
                              <p:cond delay="0"/>
                            </p:stCondLst>
                            <p:childTnLst>
                              <p:par>
                                <p:cTn id="437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4" dur="500" fill="hold"/>
                                        <p:tgtEl>
                                          <p:spTgt spid="8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5" dur="500" fill="hold"/>
                                        <p:tgtEl>
                                          <p:spTgt spid="8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7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377" dur="30929" fill="hold"/>
                                        <p:tgtEl>
                                          <p:spTgt spid="8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8" fill="hold">
                      <p:stCondLst>
                        <p:cond delay="indefinite"/>
                      </p:stCondLst>
                      <p:childTnLst>
                        <p:par>
                          <p:cTn id="4379" fill="hold">
                            <p:stCondLst>
                              <p:cond delay="0"/>
                            </p:stCondLst>
                            <p:childTnLst>
                              <p:par>
                                <p:cTn id="438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382" dur="50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3" fill="hold">
                            <p:stCondLst>
                              <p:cond delay="500"/>
                            </p:stCondLst>
                            <p:childTnLst>
                              <p:par>
                                <p:cTn id="438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6" dur="5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7" dur="5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8" fill="hold">
                            <p:stCondLst>
                              <p:cond delay="1000"/>
                            </p:stCondLst>
                            <p:childTnLst>
                              <p:par>
                                <p:cTn id="438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1" dur="500" fill="hold"/>
                                        <p:tgtEl>
                                          <p:spTgt spid="8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2" dur="500" fill="hold"/>
                                        <p:tgtEl>
                                          <p:spTgt spid="8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3" fill="hold">
                            <p:stCondLst>
                              <p:cond delay="1500"/>
                            </p:stCondLst>
                            <p:childTnLst>
                              <p:par>
                                <p:cTn id="439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6" dur="5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7" dur="5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8" fill="hold">
                      <p:stCondLst>
                        <p:cond delay="indefinite"/>
                      </p:stCondLst>
                      <p:childTnLst>
                        <p:par>
                          <p:cTn id="4399" fill="hold">
                            <p:stCondLst>
                              <p:cond delay="0"/>
                            </p:stCondLst>
                            <p:childTnLst>
                              <p:par>
                                <p:cTn id="440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0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4" fill="hold">
                            <p:stCondLst>
                              <p:cond delay="0"/>
                            </p:stCondLst>
                            <p:childTnLst>
                              <p:par>
                                <p:cTn id="440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40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4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4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4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1" fill="hold">
                            <p:stCondLst>
                              <p:cond delay="1000"/>
                            </p:stCondLst>
                            <p:childTnLst>
                              <p:par>
                                <p:cTn id="4412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4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4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416" dur="1000"/>
                                        <p:tgtEl>
                                          <p:spTgt spid="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20" dur="500"/>
                                        <p:tgtEl>
                                          <p:spTgt spid="8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1" fill="hold">
                            <p:stCondLst>
                              <p:cond delay="2500"/>
                            </p:stCondLst>
                            <p:childTnLst>
                              <p:par>
                                <p:cTn id="44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4" dur="500" fill="hold"/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5" dur="500" fill="hold"/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6" fill="hold">
                      <p:stCondLst>
                        <p:cond delay="indefinite"/>
                      </p:stCondLst>
                      <p:childTnLst>
                        <p:par>
                          <p:cTn id="4427" fill="hold">
                            <p:stCondLst>
                              <p:cond delay="0"/>
                            </p:stCondLst>
                            <p:childTnLst>
                              <p:par>
                                <p:cTn id="442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3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2" fill="hold">
                            <p:stCondLst>
                              <p:cond delay="0"/>
                            </p:stCondLst>
                            <p:childTnLst>
                              <p:par>
                                <p:cTn id="44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35" dur="500"/>
                                        <p:tgtEl>
                                          <p:spTgt spid="8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8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899" name=""/>
          <p:cNvSpPr/>
          <p:nvPr/>
        </p:nvSpPr>
        <p:spPr>
          <a:xfrm>
            <a:off x="838080" y="1371600"/>
            <a:ext cx="7467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Traditional Arabic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مِنْهُمُ الَّذِينَ يُؤْذُونَ النَّبِيَّ وَيَقُولُونَ هُوَ </a:t>
            </a: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أُذُنٌ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قُلْ أُذُنُ خَيْرٍ لَكُمْ يُؤْمِنُ بِاللَّهِ وَيُؤْمِنُ لِلْمُؤْمِنِينَ وَرَحْمَةٌ لِلَّذِينَ آمَنُوا مِنْكُمْ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...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Traditional Arabic"/>
              </a:rPr>
              <a:t>    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توب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61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2992320" y="3429000"/>
            <a:ext cx="21085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جارحة السم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7238880" y="3429000"/>
            <a:ext cx="10764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أُذُنٌ</a:t>
            </a:r>
            <a:r>
              <a:rPr b="0" lang="ar-LB" sz="2800" spc="-1" strike="noStrike">
                <a:solidFill>
                  <a:srgbClr val="e303d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5115960" y="3429000"/>
            <a:ext cx="18572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عطي الإذ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1295280" y="3429000"/>
            <a:ext cx="147816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سمعه قوي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762120" y="4724280"/>
            <a:ext cx="7543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cs typeface="Arial"/>
              </a:rPr>
              <a:t>سميَّ (ص) بها إشارة إلى أنه يصغي ويستمع إلى كل ما يقال ويذكر له،للإساءة إليه (ص) ، لكنه سماع لما فيه خيركم  ومصلحتكم وليس لما يضركم ولا ينفعكم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6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907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436" dur="indefinite" restart="never" nodeType="tmRoot">
          <p:childTnLst>
            <p:seq>
              <p:cTn id="4437" dur="indefinite" nodeType="mainSeq">
                <p:childTnLst>
                  <p:par>
                    <p:cTn id="4438" fill="hold">
                      <p:stCondLst>
                        <p:cond delay="0"/>
                      </p:stCondLst>
                      <p:childTnLst>
                        <p:par>
                          <p:cTn id="4439" fill="hold">
                            <p:stCondLst>
                              <p:cond delay="0"/>
                            </p:stCondLst>
                            <p:childTnLst>
                              <p:par>
                                <p:cTn id="444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2" dur="1000" fill="hold"/>
                                        <p:tgtEl>
                                          <p:spTgt spid="8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3" dur="1000" fill="hold"/>
                                        <p:tgtEl>
                                          <p:spTgt spid="8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44" dur="10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46" dur="24033" fill="hold"/>
                                        <p:tgtEl>
                                          <p:spTgt spid="9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7" fill="hold">
                      <p:stCondLst>
                        <p:cond delay="indefinite"/>
                      </p:stCondLst>
                      <p:childTnLst>
                        <p:par>
                          <p:cTn id="4448" fill="hold">
                            <p:stCondLst>
                              <p:cond delay="0"/>
                            </p:stCondLst>
                            <p:childTnLst>
                              <p:par>
                                <p:cTn id="444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451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2" fill="hold">
                            <p:stCondLst>
                              <p:cond delay="500"/>
                            </p:stCondLst>
                            <p:childTnLst>
                              <p:par>
                                <p:cTn id="445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455" dur="5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6" fill="hold">
                            <p:stCondLst>
                              <p:cond delay="1000"/>
                            </p:stCondLst>
                            <p:childTnLst>
                              <p:par>
                                <p:cTn id="445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9" dur="500" fill="hold"/>
                                        <p:tgtEl>
                                          <p:spTgt spid="9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0" dur="500" fill="hold"/>
                                        <p:tgtEl>
                                          <p:spTgt spid="9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1" fill="hold">
                            <p:stCondLst>
                              <p:cond delay="1500"/>
                            </p:stCondLst>
                            <p:childTnLst>
                              <p:par>
                                <p:cTn id="446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464" dur="500"/>
                                        <p:tgtEl>
                                          <p:spTgt spid="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5" fill="hold">
                      <p:stCondLst>
                        <p:cond delay="indefinite"/>
                      </p:stCondLst>
                      <p:childTnLst>
                        <p:par>
                          <p:cTn id="4466" fill="hold">
                            <p:stCondLst>
                              <p:cond delay="0"/>
                            </p:stCondLst>
                            <p:childTnLst>
                              <p:par>
                                <p:cTn id="446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6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1" fill="hold">
                            <p:stCondLst>
                              <p:cond delay="0"/>
                            </p:stCondLst>
                            <p:childTnLst>
                              <p:par>
                                <p:cTn id="44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74" dur="500"/>
                                        <p:tgtEl>
                                          <p:spTgt spid="9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8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909" name=""/>
          <p:cNvSpPr/>
          <p:nvPr/>
        </p:nvSpPr>
        <p:spPr>
          <a:xfrm>
            <a:off x="609480" y="1295280"/>
            <a:ext cx="7772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Traditional Arabic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أَلَمْ يَأْتِهِمْ نَبَأُ الَّذِينَ مِنْ قَبْلِهِمْ قَوْمِ نُوحٍ وَعَادٍ وَثَمُودَ وَقَوْمِ إِبْرَاهِيمَ وَأَصْحَابِ مَدْيَنَ </a:t>
            </a: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وَالْمُؤْتَفِكَاتِ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أَتَتْهُمْ رُسُلُهُمْ بِالْبَيِّنَاتِ فَمَا كَانَ اللَّهُ لِيَظْلِمَهُمْ وَلَكِنْ كَانُوا أَنْفُسَهُمْ يَظْلِمُونَ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توب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70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6417360" y="3429000"/>
            <a:ext cx="20642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وَالْمُؤْتَفِكَاتِ</a:t>
            </a:r>
            <a:r>
              <a:rPr b="0" lang="ar-LB" sz="2800" spc="-1" strike="noStrike">
                <a:solidFill>
                  <a:srgbClr val="e303d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914400" y="3429000"/>
            <a:ext cx="146052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منقلبا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4648320" y="3429000"/>
            <a:ext cx="15652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مؤمنا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2743200" y="3429000"/>
            <a:ext cx="142704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صالحا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223920" y="4648320"/>
            <a:ext cx="897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ea typeface="Arial"/>
              </a:rPr>
              <a:t> المقصود بالمؤتفكات قوم لوط الذين إنقلبت بهم قراهم عاليها سافلها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6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917" name="" descr=""/>
          <p:cNvPicPr/>
          <p:nvPr/>
        </p:nvPicPr>
        <p:blipFill>
          <a:blip r:embed="rId3"/>
          <a:stretch/>
        </p:blipFill>
        <p:spPr>
          <a:xfrm>
            <a:off x="1371600" y="22096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475" dur="indefinite" restart="never" nodeType="tmRoot">
          <p:childTnLst>
            <p:seq>
              <p:cTn id="4476" dur="indefinite" nodeType="mainSeq">
                <p:childTnLst>
                  <p:par>
                    <p:cTn id="4477" fill="hold">
                      <p:stCondLst>
                        <p:cond delay="0"/>
                      </p:stCondLst>
                      <p:childTnLst>
                        <p:par>
                          <p:cTn id="4478" fill="hold">
                            <p:stCondLst>
                              <p:cond delay="0"/>
                            </p:stCondLst>
                            <p:childTnLst>
                              <p:par>
                                <p:cTn id="447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1" dur="500" fill="hold"/>
                                        <p:tgtEl>
                                          <p:spTgt spid="9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2" dur="500" fill="hold"/>
                                        <p:tgtEl>
                                          <p:spTgt spid="9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3" dur="500" fill="hold"/>
                                        <p:tgtEl>
                                          <p:spTgt spid="9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84" dur="500"/>
                                        <p:tgtEl>
                                          <p:spTgt spid="9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86" dur="35840" fill="hold"/>
                                        <p:tgtEl>
                                          <p:spTgt spid="9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7" fill="hold">
                      <p:stCondLst>
                        <p:cond delay="indefinite"/>
                      </p:stCondLst>
                      <p:childTnLst>
                        <p:par>
                          <p:cTn id="4488" fill="hold">
                            <p:stCondLst>
                              <p:cond delay="0"/>
                            </p:stCondLst>
                            <p:childTnLst>
                              <p:par>
                                <p:cTn id="448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4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4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493" dur="1000"/>
                                        <p:tgtEl>
                                          <p:spTgt spid="9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4" fill="hold">
                            <p:stCondLst>
                              <p:cond delay="1000"/>
                            </p:stCondLst>
                            <p:childTnLst>
                              <p:par>
                                <p:cTn id="44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97" dur="500"/>
                                        <p:tgtEl>
                                          <p:spTgt spid="9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8" fill="hold">
                            <p:stCondLst>
                              <p:cond delay="1500"/>
                            </p:stCondLst>
                            <p:childTnLst>
                              <p:par>
                                <p:cTn id="449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01" dur="500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2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5" dur="500" fill="hold"/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6" dur="500" fill="hold"/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7" fill="hold">
                      <p:stCondLst>
                        <p:cond delay="indefinite"/>
                      </p:stCondLst>
                      <p:childTnLst>
                        <p:par>
                          <p:cTn id="4508" fill="hold">
                            <p:stCondLst>
                              <p:cond delay="0"/>
                            </p:stCondLst>
                            <p:childTnLst>
                              <p:par>
                                <p:cTn id="450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1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3" fill="hold">
                            <p:stCondLst>
                              <p:cond delay="0"/>
                            </p:stCondLst>
                            <p:childTnLst>
                              <p:par>
                                <p:cTn id="45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16" dur="500"/>
                                        <p:tgtEl>
                                          <p:spTgt spid="9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8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919" name=""/>
          <p:cNvSpPr/>
          <p:nvPr/>
        </p:nvSpPr>
        <p:spPr>
          <a:xfrm>
            <a:off x="533520" y="1676520"/>
            <a:ext cx="784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رَضُوا بِأَنْ يَكُونُوا مَعَ </a:t>
            </a: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الْخَوَالِفِ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وَطُبِعَ عَلَى قُلُوبِهِمْ فَهُمْ لا يَفْقَهُونَ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توب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87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6801480" y="3352680"/>
            <a:ext cx="15721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الْخَوَالِفِ</a:t>
            </a:r>
            <a:r>
              <a:rPr b="0" lang="ar-LB" sz="2800" spc="-1" strike="noStrike">
                <a:solidFill>
                  <a:srgbClr val="e303d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2895480" y="3352680"/>
            <a:ext cx="17305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متخلفي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4952880" y="3352680"/>
            <a:ext cx="1739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خائفي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838080" y="3352680"/>
            <a:ext cx="16941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هاربي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>
            <a:off x="838080" y="4572000"/>
            <a:ext cx="739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cs typeface="Arial"/>
              </a:rPr>
              <a:t>الخوالف المقصود بهم الذين عُذِروا عن المشاركة في الجهاد من النساء والعجائز والأطفال والمرضى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6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927" name="" descr=""/>
          <p:cNvPicPr/>
          <p:nvPr/>
        </p:nvPicPr>
        <p:blipFill>
          <a:blip r:embed="rId3"/>
          <a:stretch/>
        </p:blipFill>
        <p:spPr>
          <a:xfrm>
            <a:off x="3276720" y="22860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17" dur="indefinite" restart="never" nodeType="tmRoot">
          <p:childTnLst>
            <p:seq>
              <p:cTn id="4518" dur="indefinite" nodeType="mainSeq">
                <p:childTnLst>
                  <p:par>
                    <p:cTn id="4519" fill="hold">
                      <p:stCondLst>
                        <p:cond delay="0"/>
                      </p:stCondLst>
                      <p:childTnLst>
                        <p:par>
                          <p:cTn id="4520" fill="hold">
                            <p:stCondLst>
                              <p:cond delay="0"/>
                            </p:stCondLst>
                            <p:childTnLst>
                              <p:par>
                                <p:cTn id="452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23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25" dur="11912" fill="hold"/>
                                        <p:tgtEl>
                                          <p:spTgt spid="9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6" fill="hold">
                      <p:stCondLst>
                        <p:cond delay="indefinite"/>
                      </p:stCondLst>
                      <p:childTnLst>
                        <p:par>
                          <p:cTn id="4527" fill="hold">
                            <p:stCondLst>
                              <p:cond delay="0"/>
                            </p:stCondLst>
                            <p:childTnLst>
                              <p:par>
                                <p:cTn id="45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30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1" fill="hold">
                            <p:stCondLst>
                              <p:cond delay="500"/>
                            </p:stCondLst>
                            <p:childTnLst>
                              <p:par>
                                <p:cTn id="453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4" dur="500" fill="hold"/>
                                        <p:tgtEl>
                                          <p:spTgt spid="9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5" dur="500" fill="hold"/>
                                        <p:tgtEl>
                                          <p:spTgt spid="9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6" fill="hold">
                            <p:stCondLst>
                              <p:cond delay="1000"/>
                            </p:stCondLst>
                            <p:childTnLst>
                              <p:par>
                                <p:cTn id="453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9" dur="500" fill="hold"/>
                                        <p:tgtEl>
                                          <p:spTgt spid="9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0" dur="500" fill="hold"/>
                                        <p:tgtEl>
                                          <p:spTgt spid="9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1" fill="hold">
                            <p:stCondLst>
                              <p:cond delay="1500"/>
                            </p:stCondLst>
                            <p:childTnLst>
                              <p:par>
                                <p:cTn id="454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544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5" fill="hold">
                      <p:stCondLst>
                        <p:cond delay="indefinite"/>
                      </p:stCondLst>
                      <p:childTnLst>
                        <p:par>
                          <p:cTn id="4546" fill="hold">
                            <p:stCondLst>
                              <p:cond delay="0"/>
                            </p:stCondLst>
                            <p:childTnLst>
                              <p:par>
                                <p:cTn id="454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4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1" fill="hold">
                            <p:stCondLst>
                              <p:cond delay="0"/>
                            </p:stCondLst>
                            <p:childTnLst>
                              <p:par>
                                <p:cTn id="45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5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1219320" y="1568520"/>
            <a:ext cx="6781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أَفَرَأَيْتَ الَّذِي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تَوَلَّى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Traditional Arabic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Wingdings 2"/>
                <a:ea typeface="Wingdings 2"/>
              </a:rPr>
              <a:t>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Traditional Arabic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وأعْطَى قَلِيلاً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وأكْدَى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Traditional Arabic"/>
              </a:rPr>
              <a:t> 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Traditional Arabic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( النجم :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33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و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34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781680" y="3281400"/>
            <a:ext cx="137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تَوَلَّى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990720" y="3281400"/>
            <a:ext cx="1627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أعرض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876920" y="328140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ذه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95480" y="3276720"/>
            <a:ext cx="16700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خا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6781680" y="4500720"/>
            <a:ext cx="137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وَأَكْدَى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876920" y="450072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وأخف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895480" y="4495680"/>
            <a:ext cx="16480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وقط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4495680"/>
            <a:ext cx="16333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وأخ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847440" y="5486400"/>
            <a:ext cx="76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cs typeface="Arial"/>
              </a:rPr>
              <a:t>أكدى : أي الذي أعطى قليلاً من المال ثم أمسك أشد المس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3"/>
          <a:stretch/>
        </p:blipFill>
        <p:spPr>
          <a:xfrm>
            <a:off x="4419720" y="12193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0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2" dur="7785" fill="hold"/>
                                        <p:tgtEl>
                                          <p:spTgt spid="1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500"/>
                            </p:stCondLst>
                            <p:childTnLst>
                              <p:par>
                                <p:cTn id="3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1000"/>
                            </p:stCondLst>
                            <p:childTnLst>
                              <p:par>
                                <p:cTn id="306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2000"/>
                            </p:stCondLst>
                            <p:childTnLst>
                              <p:par>
                                <p:cTn id="31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1000"/>
                            </p:stCondLst>
                            <p:childTnLst>
                              <p:par>
                                <p:cTn id="3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1500"/>
                            </p:stCondLst>
                            <p:childTnLst>
                              <p:par>
                                <p:cTn id="33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3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914400" y="1143000"/>
            <a:ext cx="7238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أَنَّ عَلَيْهِ النَّشْأَةَ الْأُخْرَى </a:t>
            </a:r>
            <a:r>
              <a:rPr b="0" lang="ar-SA" sz="2800" spc="-1" strike="noStrike">
                <a:solidFill>
                  <a:srgbClr val="010199"/>
                </a:solidFill>
                <a:latin typeface="Wingdings 2"/>
                <a:ea typeface="Wingdings 2"/>
              </a:rPr>
              <a:t>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وَأَنَّهُ هُوَ أَغْنَى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وَأَقْنَى </a:t>
            </a:r>
            <a:r>
              <a:rPr b="0" lang="ar-SA" sz="2800" spc="-1" strike="noStrike">
                <a:solidFill>
                  <a:srgbClr val="010199"/>
                </a:solidFill>
                <a:latin typeface="Wingdings 2"/>
                <a:ea typeface="Wingdings 2"/>
              </a:rPr>
              <a:t>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أَنَّهُ هُوَ رَبُّ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الشِّعْرَى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 النجم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47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48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و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49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010280" y="2590920"/>
            <a:ext cx="12384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وَأَقْنَى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876920" y="2590920"/>
            <a:ext cx="193968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أعطى ما يبقى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743200" y="2590920"/>
            <a:ext cx="19810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أفق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85800" y="2590920"/>
            <a:ext cx="19368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أخ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914400" y="3444840"/>
            <a:ext cx="734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ea typeface="Arial"/>
              </a:rPr>
              <a:t> ومعنى القنية ما يدوم من الأموال ويبقى ببقاء نفسه كالدار والبستان والحيوا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6899400" y="4576680"/>
            <a:ext cx="15476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الشِّعْرَى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876920" y="4572000"/>
            <a:ext cx="193032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نجم المضي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819520" y="4576680"/>
            <a:ext cx="19112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كواك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62120" y="4576680"/>
            <a:ext cx="19270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أنوا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0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8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8" dur="8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8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8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4" dur="13845" fill="hold"/>
                                        <p:tgtEl>
                                          <p:spTgt spid="1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9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500"/>
                            </p:stCondLst>
                            <p:childTnLst>
                              <p:par>
                                <p:cTn id="37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1000"/>
                            </p:stCondLst>
                            <p:childTnLst>
                              <p:par>
                                <p:cTn id="37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1500"/>
                            </p:stCondLst>
                            <p:childTnLst>
                              <p:par>
                                <p:cTn id="3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8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3" dur="8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4" dur="8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5" dur="8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480"/>
                            </p:stCondLst>
                            <p:childTnLst>
                              <p:par>
                                <p:cTn id="417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21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1480"/>
                            </p:stCondLst>
                            <p:childTnLst>
                              <p:par>
                                <p:cTn id="42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1980"/>
                            </p:stCondLst>
                            <p:childTnLst>
                              <p:par>
                                <p:cTn id="42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6T17:47:59Z</dcterms:created>
  <dc:creator/>
  <dc:description/>
  <dc:language>en-US</dc:language>
  <cp:lastModifiedBy>ALI</cp:lastModifiedBy>
  <dcterms:modified xsi:type="dcterms:W3CDTF">2008-09-21T07:01:32Z</dcterms:modified>
  <cp:revision>6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